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5FC-B4D1-4278-A872-58E2AC5E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7D4-4866-4860-AD0E-8D748833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502-3242-4650-8268-0FCB3A6A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526-071F-4EED-AA07-F0060E95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C366E-9589-438E-90AB-9EB70DBF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494E1-A95A-47EA-8AFC-128D1E82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42A3F-A501-4D1C-9274-61BEC3DF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2F93A-6D72-4BF4-A93F-3B477309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82434-E60E-4E87-B648-F6F92E0C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09579-E492-4172-9318-6E193B8F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BC14D-667E-4DE0-BA5D-468797F5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D3A-5F55-4B41-A62B-C2739BCE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0BC7A-AC9F-4D27-B21C-3A1B5AAB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0C07C-CA22-4569-AD9C-B117136E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E31BF-43C3-4A41-9B6D-A6B7DFAF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963D5-6E3A-4C6B-A659-DCF6EB4E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6B8ED-B7CE-42E8-AF8F-5DDD4E94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9693C-B550-4CA8-B075-E9E57C02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0265-5143-4FB1-8887-639754FB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36EF6-6D9C-43CC-9769-732A5B15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08C3-D0A6-4031-8223-13D3BBF8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FAB2F-365C-4426-ACC5-A20E31B7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B88-2000-4014-947E-6ADC10C6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30A10-690B-41BF-9053-4D983DE6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B909C-2C6F-4A3B-B83B-1D1CECC9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733A5-8531-4AA3-B1D1-EEB17A71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92F52-750E-4E44-ABD7-7077F92D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6F5B2-7EA6-4244-B39C-3BCC17A3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62ED-4E4B-4412-BCCB-CFB445D1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7B36C-E64B-4D78-B97E-94CE2948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24B-DD4E-41FF-A4DC-D4B47F2B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83D-3F5E-492D-8E0D-923088B8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9A7-CBA7-441A-B0D8-3DDBF7FC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EB5-3DA1-4DBE-9AE9-4425EB7E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75E-6C8D-4AAF-B61A-14863D80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27C-B4E6-4744-949F-72CFC72A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658E-4A6C-43DA-9DF5-35761BBDC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D6A6-395D-4487-A45E-012AE6D5AB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F32D-E221-4147-9EB6-A46137978E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100" spc="-1" strike="noStrike">
                <a:solidFill>
                  <a:srgbClr val="ffffff"/>
                </a:solidFill>
                <a:latin typeface="Arial"/>
              </a:rPr>
              <a:t>Презентац</a:t>
            </a:r>
            <a:r>
              <a:rPr b="0" i="1" lang="uk-UA" sz="6100" spc="-1" strike="noStrike">
                <a:solidFill>
                  <a:srgbClr val="ffffff"/>
                </a:solidFill>
                <a:latin typeface="Arial"/>
              </a:rPr>
              <a:t>ія виконання міського бюджету                  за 2013 рік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аблиця №9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рівняння видатків на заробітну плату та енергоносії по міському бюдж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28600" y="939960"/>
          <a:ext cx="8686800" cy="5689080"/>
        </p:xfrm>
        <a:graphic>
          <a:graphicData uri="http://schemas.openxmlformats.org/drawingml/2006/table">
            <a:tbl>
              <a:tblPr/>
              <a:tblGrid>
                <a:gridCol w="3886200"/>
                <a:gridCol w="1143000"/>
                <a:gridCol w="1066680"/>
                <a:gridCol w="1219320"/>
                <a:gridCol w="1371600"/>
              </a:tblGrid>
              <a:tr h="712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2012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2013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росту факту за 2013 рік до факту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и рос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фінансування зарплати та енергоносі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 84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 74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81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обітна плата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3 26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1 5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26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 52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 36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83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орона здоров"я (без СШМ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58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06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47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оносії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99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54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54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уги теплопоста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7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36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5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блиця №1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 та спеціального фондів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 видатках на житлово-комунальне сподарство за 2013 рік по головному розпоряднику – Головному управлінню Ж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2280" y="838080"/>
          <a:ext cx="8839440" cy="5954760"/>
        </p:xfrm>
        <a:graphic>
          <a:graphicData uri="http://schemas.openxmlformats.org/drawingml/2006/table">
            <a:tbl>
              <a:tblPr/>
              <a:tblGrid>
                <a:gridCol w="3283200"/>
                <a:gridCol w="1009440"/>
                <a:gridCol w="927360"/>
                <a:gridCol w="1093680"/>
                <a:gridCol w="841320"/>
                <a:gridCol w="843120"/>
                <a:gridCol w="841320"/>
              </a:tblGrid>
              <a:tr h="65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онано за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 рік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конано за 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онання до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чного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до фа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рнуто фінансу-вання 30.12.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  Ж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08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66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3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Загальний фонд, у т.ч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9 05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4 </a:t>
                      </a: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2 41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8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 міста, 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637,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51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6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доріг та вивезення см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00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664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7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зелених насад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76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7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2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кладови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г. мереж зовнішнього освіт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3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ня креди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ін. допомога комунальним п-вам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1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2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78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9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2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ПУ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Кіровограджитлосервіс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7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рест зеленого господарства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еплоенергети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КПЄЗО “Міськсвітло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Кіровоград-Універсал-2005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пеціальний фонд </a:t>
                      </a:r>
                      <a:r>
                        <a:rPr b="1" i="1" lang="uk-UA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(б-т розвитку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 03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4 1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 24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54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емонт житлового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2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5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8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7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2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інансування на утримання та ремонт доріг у 2013 році  по Головному управлінню житлово-комунального господарства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4030560" cy="4525920"/>
        </p:xfrm>
        <a:graphic>
          <a:graphicData uri="http://schemas.openxmlformats.org/drawingml/2006/table">
            <a:tbl>
              <a:tblPr/>
              <a:tblGrid>
                <a:gridCol w="403056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52280" y="1143000"/>
          <a:ext cx="8839440" cy="5333760"/>
        </p:xfrm>
        <a:graphic>
          <a:graphicData uri="http://schemas.openxmlformats.org/drawingml/2006/table">
            <a:tbl>
              <a:tblPr/>
              <a:tblGrid>
                <a:gridCol w="2786040"/>
                <a:gridCol w="1152720"/>
                <a:gridCol w="938160"/>
                <a:gridCol w="990720"/>
                <a:gridCol w="1050840"/>
                <a:gridCol w="863640"/>
                <a:gridCol w="105732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 2013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онано за 2013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виконання до річного пла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до факту за 2012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рнуто фінансування 30.12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33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55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78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80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льний фон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5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86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48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ий фонд,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984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269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53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14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4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9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7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6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7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 з державного та обласного бюджетів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26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50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39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4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спожи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2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4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2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57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96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9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И спецфонду- Таблиця №12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доходами  за 2013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533520"/>
          <a:ext cx="8763120" cy="6180120"/>
        </p:xfrm>
        <a:graphic>
          <a:graphicData uri="http://schemas.openxmlformats.org/drawingml/2006/table">
            <a:tbl>
              <a:tblPr/>
              <a:tblGrid>
                <a:gridCol w="3286080"/>
                <a:gridCol w="927000"/>
                <a:gridCol w="927360"/>
                <a:gridCol w="927000"/>
                <a:gridCol w="925560"/>
                <a:gridCol w="842760"/>
                <a:gridCol w="92736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2012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 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сту до факту 2012 рок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8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6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3,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аток з власників трансп. засоб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ершу реєстрацію транс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3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8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0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ровадження торговельної діяльності нафтопродуктами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розви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82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7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26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5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285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9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92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відчуження май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0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8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9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03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айової участі замов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ток на нерухоме май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охорони навколишнього природного середов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5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2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шові стягнення за шк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забрудн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ші надходження до фонду охор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ільов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3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сні надходження бюджетних уст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22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06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65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ом спеціальний фо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77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59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40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1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62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45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58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-90360" y="-322200"/>
          <a:ext cx="9629640" cy="71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0360" y="-322200"/>
                    <a:ext cx="9629640" cy="71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784872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4</a:t>
            </a:r>
            <a:br>
              <a:rPr sz="14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за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датками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2013 році</a:t>
            </a:r>
            <a:br>
              <a:rPr sz="12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52280" y="838080"/>
          <a:ext cx="8839440" cy="6051600"/>
        </p:xfrm>
        <a:graphic>
          <a:graphicData uri="http://schemas.openxmlformats.org/drawingml/2006/table">
            <a:tbl>
              <a:tblPr/>
              <a:tblGrid>
                <a:gridCol w="3021120"/>
                <a:gridCol w="1144440"/>
                <a:gridCol w="1041480"/>
                <a:gridCol w="1041480"/>
                <a:gridCol w="831960"/>
                <a:gridCol w="831600"/>
                <a:gridCol w="92736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           2012 рі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у до 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ернуто фінансу-вання 30.12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но викон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виконання до річного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 розвитку,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 н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66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 43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1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95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і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7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 23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67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73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хорона здоров'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8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5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93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3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тлово-комунальне господар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6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 06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 74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67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монт дорі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7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3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67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ультура і фізична 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6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ціальний зах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пітальні вклад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 09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78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0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83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вестиційні проекти (співфін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4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84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,9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ески у статутні капіт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 видатки та комп'ютеризація виконавчих орган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994,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32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0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зробка та коригування містобудівної докумен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обл.та район.бюджет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рожн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 1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 4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 29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ільові фон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5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сні надходження бюджетних уст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04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06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15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ом видатків з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3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 90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08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78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та обл. бюдже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762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95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19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3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7200" spc="-1" strike="noStrike">
                <a:solidFill>
                  <a:srgbClr val="ffffff"/>
                </a:solidFill>
                <a:latin typeface="Arial"/>
              </a:rPr>
              <a:t>Дякуємо за уваг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№1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загального фонду міського бюджету м.Кіровограда  за доходами  за 2013 рі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609480"/>
          <a:ext cx="8763120" cy="5981760"/>
        </p:xfrm>
        <a:graphic>
          <a:graphicData uri="http://schemas.openxmlformats.org/drawingml/2006/table">
            <a:tbl>
              <a:tblPr/>
              <a:tblGrid>
                <a:gridCol w="3262680"/>
                <a:gridCol w="1025280"/>
                <a:gridCol w="803520"/>
                <a:gridCol w="975240"/>
                <a:gridCol w="1048320"/>
                <a:gridCol w="824040"/>
                <a:gridCol w="824040"/>
              </a:tblGrid>
              <a:tr h="395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 за 2012 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сту до факту  за 2012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викон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 43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7 66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 58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 07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користування надр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94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1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28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82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93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75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09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5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1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35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18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16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8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7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5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а за розміщ тимчас. вільних кошт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єстраційний збі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4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5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2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 63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6 35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0 17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6 1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 98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 48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 48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97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6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6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 58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4 5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8 32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6 1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6 71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 14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 97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17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№2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загального фонду міського бюджету м.Кіровограда  за доходами  у грудні 2013 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609480"/>
          <a:ext cx="8839080" cy="5751720"/>
        </p:xfrm>
        <a:graphic>
          <a:graphicData uri="http://schemas.openxmlformats.org/drawingml/2006/table">
            <a:tbl>
              <a:tblPr/>
              <a:tblGrid>
                <a:gridCol w="3436920"/>
                <a:gridCol w="982800"/>
                <a:gridCol w="982440"/>
                <a:gridCol w="981000"/>
                <a:gridCol w="785880"/>
                <a:gridCol w="785880"/>
                <a:gridCol w="88416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 за грудень 2012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рудень 2013р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сту до факту  за  грудень 2012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викон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51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93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72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6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9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3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0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6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5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1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а за розміщ тимчас. вільних кошт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єстраційний збі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3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94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88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70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61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39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87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7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56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54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54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12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 83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 1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9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 3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943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3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36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№3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иконання загального фонду зведеного бюджету м.Кіровограда за доходами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2013 рі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981000"/>
          <a:ext cx="8736120" cy="5691240"/>
        </p:xfrm>
        <a:graphic>
          <a:graphicData uri="http://schemas.openxmlformats.org/drawingml/2006/table">
            <a:tbl>
              <a:tblPr/>
              <a:tblGrid>
                <a:gridCol w="3326040"/>
                <a:gridCol w="1066680"/>
                <a:gridCol w="1295280"/>
                <a:gridCol w="1295640"/>
                <a:gridCol w="838080"/>
                <a:gridCol w="914400"/>
              </a:tblGrid>
              <a:tr h="566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до факту за 2012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ня р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іський бюдж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8 3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 15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 17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Кіровського р-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7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2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Ленінського р-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6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1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с.Но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6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4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ього доходів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гального фон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6 46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 34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 12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вен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2 14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6 97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5 17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4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власних та закріплених доходів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2"/>
          <p:cNvGraphicFramePr/>
          <p:nvPr/>
        </p:nvGraphicFramePr>
        <p:xfrm>
          <a:off x="-54000" y="928800"/>
          <a:ext cx="8910720" cy="57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000" y="928800"/>
                    <a:ext cx="891072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5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одатку на доходи фізичних осіб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6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в розрізі земельного податку 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орендної пла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без с.Нового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у порівнянні з 20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152280" y="763560"/>
          <a:ext cx="8940960" cy="569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3560"/>
                    <a:ext cx="8940960" cy="56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и - Таблиця №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2013 рі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04920" y="990720"/>
          <a:ext cx="8458200" cy="5133960"/>
        </p:xfrm>
        <a:graphic>
          <a:graphicData uri="http://schemas.openxmlformats.org/drawingml/2006/table">
            <a:tbl>
              <a:tblPr/>
              <a:tblGrid>
                <a:gridCol w="3236760"/>
                <a:gridCol w="1182600"/>
                <a:gridCol w="1219320"/>
                <a:gridCol w="838080"/>
                <a:gridCol w="930240"/>
                <a:gridCol w="1051200"/>
              </a:tblGrid>
              <a:tr h="299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рнуто фінансування 30.12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вряд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657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55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 80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 01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дор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без СШМ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 0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 93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захи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7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71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стец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18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75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з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1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3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тло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унальн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сп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34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1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є господарство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5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1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4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8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атків міського бюдже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3 445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4 03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45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 98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 3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7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нсація за пільговий прої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7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37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адмін.по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8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іаграма №8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видатків загального фонду за 2013 рік в розрізі напрямків викорис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291960" y="1143000"/>
          <a:ext cx="84204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143000"/>
                    <a:ext cx="8420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njuk_L</cp:lastModifiedBy>
  <dcterms:modified xsi:type="dcterms:W3CDTF">2014-01-11T06:46:23Z</dcterms:modified>
  <cp:revision>8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