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8E8-190C-4129-9E77-2B0BE528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4DD-4BDB-4A6D-B8E9-831F4337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A56-0307-4C92-94D4-4D4CA7F8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BDA-5C5E-4AB3-9FFF-7B00AFA2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CFCE6-1795-4983-B5D1-870F2B76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CA653-68C5-4111-B731-DFCB612F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8C4F9-8116-4094-A33C-CE76C60F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52D95-CC3D-4F5A-817E-E0EF17E6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C7F33-51F0-4733-8F9E-D4C6B8DC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8353E-46BC-46E0-8EEB-3C16CCE1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1DE82-1016-4AFB-AD2D-A4C07E5B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083-60B4-432D-A47B-89FD6865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E769D-E46F-4A68-8083-C777D8C2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B9546-CF15-43C0-B7DC-AAE4F80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469C1-0562-400A-8CFA-F25E82E3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F9396-5FCB-47FC-982A-D75DC4C1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F08F8-1BDC-49CA-8A29-383CA785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BED1-38C3-4CBC-838B-FC73CDC0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AF3E-2563-45CA-9A0D-67B38F1D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CC6A-1977-4342-A949-D05E8E9A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1A7D-AA5A-435D-9FE3-7DE5EDFE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46AC-3CC1-4243-97E1-881BCEC6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402-EAF3-42B8-814E-CBFF00C3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AC0A-DA84-438F-956C-6FB32576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BB7C-0DF4-4507-94FC-D2871F0A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9E01-BD6E-421B-AD3F-CFF5693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3FD5-B003-4EA1-AE4E-5215AF40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CD08-BB82-4DC2-91B8-DC7FF5B1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E02A-2E39-406A-8217-769803D0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74DD-857F-41C4-AF98-5FB875A1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BE3-020B-4005-881E-F32326B0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06F-E208-4F11-B306-9B6456DC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A61-1CC7-421E-B39C-DBCB13DE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39A-2AE7-4E05-A353-BEC7BE67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A1A-FF03-4F79-AF22-4EAC81C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6D1-8AD5-474E-A42A-1E00CE9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97E-1602-4499-862C-E3AA6030D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2D32-9A3A-49DD-8FC3-239EE24CFC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728B-9E5E-4C29-80A7-F710484CEA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100" spc="-1" strike="noStrike">
                <a:solidFill>
                  <a:srgbClr val="ffffff"/>
                </a:solidFill>
                <a:latin typeface="Arial"/>
              </a:rPr>
              <a:t>Презентац</a:t>
            </a:r>
            <a:r>
              <a:rPr b="0" i="1" lang="uk-UA" sz="6100" spc="-1" strike="noStrike">
                <a:solidFill>
                  <a:srgbClr val="ffffff"/>
                </a:solidFill>
                <a:latin typeface="Arial"/>
              </a:rPr>
              <a:t>ія виконання міського бюджету                  за 2013 рік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9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939960"/>
          <a:ext cx="8686800" cy="56890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712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2012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2013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росту факту за 2013 рік до факту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 84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 74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8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3 2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 5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26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 52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 36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8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 (без СШМ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58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0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7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9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5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7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3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1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2013 рік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280" y="838080"/>
          <a:ext cx="8839440" cy="5954760"/>
        </p:xfrm>
        <a:graphic>
          <a:graphicData uri="http://schemas.openxmlformats.org/drawingml/2006/table">
            <a:tbl>
              <a:tblPr/>
              <a:tblGrid>
                <a:gridCol w="3283200"/>
                <a:gridCol w="1009440"/>
                <a:gridCol w="927360"/>
                <a:gridCol w="1093680"/>
                <a:gridCol w="841320"/>
                <a:gridCol w="843120"/>
                <a:gridCol w="841320"/>
              </a:tblGrid>
              <a:tr h="65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нано за 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конано за 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н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нуто фінансу-вання 30.12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0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66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3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9 05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4 </a:t>
                      </a: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2 41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8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637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51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6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0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64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7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2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3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8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9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житлосерві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Кіровоград-Універсал-2005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03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1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2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54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2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8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2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2013 році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52280" y="1143000"/>
          <a:ext cx="8839440" cy="5333760"/>
        </p:xfrm>
        <a:graphic>
          <a:graphicData uri="http://schemas.openxmlformats.org/drawingml/2006/table">
            <a:tbl>
              <a:tblPr/>
              <a:tblGrid>
                <a:gridCol w="2786040"/>
                <a:gridCol w="1152720"/>
                <a:gridCol w="938160"/>
                <a:gridCol w="990720"/>
                <a:gridCol w="1050840"/>
                <a:gridCol w="863640"/>
                <a:gridCol w="105732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нано за 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виконання до річного пла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2012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рнуто фінансування 30.1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3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55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7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0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5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8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4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8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26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4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4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9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7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7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ержавного та обласного бюджетів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2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5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4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4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2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7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2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2013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533520"/>
          <a:ext cx="8763120" cy="6180120"/>
        </p:xfrm>
        <a:graphic>
          <a:graphicData uri="http://schemas.openxmlformats.org/drawingml/2006/table">
            <a:tbl>
              <a:tblPr/>
              <a:tblGrid>
                <a:gridCol w="3286080"/>
                <a:gridCol w="927000"/>
                <a:gridCol w="927360"/>
                <a:gridCol w="927000"/>
                <a:gridCol w="925560"/>
                <a:gridCol w="842760"/>
                <a:gridCol w="9273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2012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2012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8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6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3,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з власників трансп. засоб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3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2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7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26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5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285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9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92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8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03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2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забрудн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ні надходження бюджетних уст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2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06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65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7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5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4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62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5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58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-90360" y="-322200"/>
          <a:ext cx="9629640" cy="71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360" y="-322200"/>
                    <a:ext cx="9629640" cy="71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4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даткам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3 році</a:t>
            </a: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280" y="838080"/>
          <a:ext cx="8839440" cy="6051600"/>
        </p:xfrm>
        <a:graphic>
          <a:graphicData uri="http://schemas.openxmlformats.org/drawingml/2006/table">
            <a:tbl>
              <a:tblPr/>
              <a:tblGrid>
                <a:gridCol w="3021120"/>
                <a:gridCol w="1144440"/>
                <a:gridCol w="1041480"/>
                <a:gridCol w="1041480"/>
                <a:gridCol w="831960"/>
                <a:gridCol w="831600"/>
                <a:gridCol w="92736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           2012 рі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ернуто фінансу-вання 30.12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но викон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викон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66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43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1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9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7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2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67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3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5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9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 0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 74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67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7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3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7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6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 09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8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8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4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8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,9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994,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32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0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обл.та район.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 1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 29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сні надходження бюджетних уст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4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15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3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 90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08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78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762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9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7200" spc="-1" strike="noStrike">
                <a:solidFill>
                  <a:srgbClr val="ffffff"/>
                </a:solidFill>
                <a:latin typeface="Arial"/>
              </a:rPr>
              <a:t>Дякуємо за уваг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2013 рі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609480"/>
          <a:ext cx="8763120" cy="5981760"/>
        </p:xfrm>
        <a:graphic>
          <a:graphicData uri="http://schemas.openxmlformats.org/drawingml/2006/table">
            <a:tbl>
              <a:tblPr/>
              <a:tblGrid>
                <a:gridCol w="3262680"/>
                <a:gridCol w="1025280"/>
                <a:gridCol w="803520"/>
                <a:gridCol w="975240"/>
                <a:gridCol w="1048320"/>
                <a:gridCol w="824040"/>
                <a:gridCol w="824040"/>
              </a:tblGrid>
              <a:tr h="395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за 2012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43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 66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 58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 07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94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1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28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82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93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7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09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5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35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18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1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8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7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4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2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 6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6 35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0 17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6 1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 98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48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9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6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6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 58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 5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8 32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6 17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 71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 1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97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17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2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у грудні 2013 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609480"/>
          <a:ext cx="8839080" cy="5751720"/>
        </p:xfrm>
        <a:graphic>
          <a:graphicData uri="http://schemas.openxmlformats.org/drawingml/2006/table">
            <a:tbl>
              <a:tblPr/>
              <a:tblGrid>
                <a:gridCol w="3436920"/>
                <a:gridCol w="982800"/>
                <a:gridCol w="982440"/>
                <a:gridCol w="981000"/>
                <a:gridCol w="785880"/>
                <a:gridCol w="785880"/>
                <a:gridCol w="8841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 за грудень 2012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рудень 2013р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 грудень 2012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9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7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6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3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0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6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5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1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а за розміщ тимчас. вільних кош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єстраційний збі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94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8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70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1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9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87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7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56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54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54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1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 83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1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3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943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3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6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3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2013 рі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981000"/>
          <a:ext cx="8736120" cy="5691240"/>
        </p:xfrm>
        <a:graphic>
          <a:graphicData uri="http://schemas.openxmlformats.org/drawingml/2006/table">
            <a:tbl>
              <a:tblPr/>
              <a:tblGrid>
                <a:gridCol w="3326040"/>
                <a:gridCol w="1066680"/>
                <a:gridCol w="1295280"/>
                <a:gridCol w="1295640"/>
                <a:gridCol w="838080"/>
                <a:gridCol w="914400"/>
              </a:tblGrid>
              <a:tr h="566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 за 2012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іський бюдж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 3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 1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 17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Кіровського р-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Ленінського р-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6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.Н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4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ього доходів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гального фон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 46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 34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 1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 1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6 97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 1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-54000" y="928800"/>
          <a:ext cx="8910720" cy="57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000" y="928800"/>
                    <a:ext cx="891072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2р. та 2013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6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у порівнянні з 20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152280" y="763560"/>
          <a:ext cx="8940960" cy="569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3560"/>
                    <a:ext cx="8940960" cy="56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2013 рі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04920" y="990720"/>
          <a:ext cx="8458200" cy="5133960"/>
        </p:xfrm>
        <a:graphic>
          <a:graphicData uri="http://schemas.openxmlformats.org/drawingml/2006/table">
            <a:tbl>
              <a:tblPr/>
              <a:tblGrid>
                <a:gridCol w="3236760"/>
                <a:gridCol w="1182600"/>
                <a:gridCol w="1219320"/>
                <a:gridCol w="838080"/>
                <a:gridCol w="930240"/>
                <a:gridCol w="1051200"/>
              </a:tblGrid>
              <a:tr h="299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нуто фінансування 30.1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657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5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 8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 01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без СШМ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 0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 93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7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1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75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3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34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1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5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4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8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 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 03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4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98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3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7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3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адмін.по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8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видатків загального фонду за 2013 рік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91960" y="1143000"/>
          <a:ext cx="84204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143000"/>
                    <a:ext cx="8420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njuk_L</cp:lastModifiedBy>
  <dcterms:modified xsi:type="dcterms:W3CDTF">2014-01-11T06:46:23Z</dcterms:modified>
  <cp:revision>8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