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4EA-ED46-4B01-BAF1-88D9E7EF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698-C4E2-4861-B7F0-9F673963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396-2108-47C1-9BDC-43F38B1A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12C-6DA7-45BE-908A-A114C31F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BA96-312F-4BE7-ADFE-83961DED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0DE1-0CF6-4994-A9AC-D4A9F081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A80F-E319-4075-9C66-471D648A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C808-BF75-49EB-9414-D863F0ED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2B1F-50F5-44A6-AF36-ACE27DBD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B008-881A-402E-AD0D-E99BF7A1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8E7D-FE02-489D-B9F6-06E47758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BAE-3976-4C77-9A7D-A4D142A7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8927-7196-4981-8C90-C456B133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36DD-7DC6-4A97-9498-406086EF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8502-2772-4F5A-8B9D-98FCD87A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B55A-71AA-4D08-B592-D407B84E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21D3-C3E6-4A70-810F-CDC8BC13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FE95-318D-4ED7-A8DA-B58849EC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D0AE-9935-4FAC-ACEB-0CB90B65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4BCDB-0CE0-4E61-BD3E-15CEA7A4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4078-F559-4CFE-9962-63014651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F35A-3E74-4B81-BFBD-617F1F97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55D-BDCC-4B7D-8C69-2BAFFFF9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0C85D-3B39-46E0-BC1C-B67218ED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0FA6-B13C-4AD0-A54E-89645FAE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F77C-EF68-4C8A-8863-DF32249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D2683-7939-4944-B1ED-744FB77A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F3B0-7D20-49C6-B667-BD91C57D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A2B5E-E2BC-457F-8C56-D862C1A8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E4BD-A826-432C-A11B-84292A95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780-A224-4AC3-80DF-D6782B76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B19-CD68-4012-AC84-AC4F7CDB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3D4-BB51-4AB0-ADF2-C5A3F958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896-95EB-426A-82B4-0AD89D61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0E8-E05F-4CB7-A82B-CC4E2BFF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F03-BEBA-4C9C-9529-2ECCBF0D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DB9F-E948-4EF9-B1F8-C45C7B112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9B99-DCE5-4AFE-ACC6-22B0595FC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ADFC-D28C-4669-860A-B0BDC076D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eec94"/>
                </a:solidFill>
                <a:latin typeface="Times New Roman"/>
              </a:rPr>
              <a:t>Презентац</a:t>
            </a:r>
            <a:r>
              <a:rPr b="1" i="1" lang="uk-UA" sz="7200" spc="-1" strike="noStrike">
                <a:solidFill>
                  <a:srgbClr val="feec94"/>
                </a:solidFill>
                <a:latin typeface="Times New Roman"/>
              </a:rPr>
              <a:t>ія виконання міського бюджету за січень – жовтень 2013 р.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січень-жовтень 2013 року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838080"/>
          <a:ext cx="8839440" cy="6012000"/>
        </p:xfrm>
        <a:graphic>
          <a:graphicData uri="http://schemas.openxmlformats.org/drawingml/2006/table">
            <a:tbl>
              <a:tblPr/>
              <a:tblGrid>
                <a:gridCol w="2971800"/>
                <a:gridCol w="914400"/>
                <a:gridCol w="838440"/>
                <a:gridCol w="990360"/>
                <a:gridCol w="838440"/>
                <a:gridCol w="685800"/>
                <a:gridCol w="838080"/>
                <a:gridCol w="762120"/>
              </a:tblGrid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-совано за січень-жовтень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січень-жовтень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-та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росту до фа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я-жовтня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 ГУЖКГ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01.11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07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85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75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10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616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4 91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8 61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6 75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85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4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65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94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1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3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19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25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5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5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3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8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6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1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. допомога комунальним п-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1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6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6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4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9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Кіровограджитлосервіс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2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КПЄЗО “Міськсвітло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 №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 5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 1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 24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 9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24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4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8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5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9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6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січні-жовтні 2013 року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4030560" cy="452592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52280" y="1143000"/>
          <a:ext cx="8839440" cy="5410080"/>
        </p:xfrm>
        <a:graphic>
          <a:graphicData uri="http://schemas.openxmlformats.org/drawingml/2006/table">
            <a:tbl>
              <a:tblPr/>
              <a:tblGrid>
                <a:gridCol w="2210040"/>
                <a:gridCol w="914400"/>
                <a:gridCol w="914400"/>
                <a:gridCol w="914400"/>
                <a:gridCol w="914400"/>
                <a:gridCol w="914400"/>
                <a:gridCol w="533160"/>
                <a:gridCol w="685800"/>
                <a:gridCol w="838440"/>
              </a:tblGrid>
              <a:tr h="428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жовтень 2012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 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жовт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фінансув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січень –жовтень  2012 рок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лишки коштів на рахунку ГУЖКГ та одержувач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т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47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7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0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2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92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9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6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0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64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58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209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31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93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55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65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92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5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5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5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6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5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7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я з ДБ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6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2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7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5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1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7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3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5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3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11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інансування та залишки по  видатках загального фонду по Головному управлінню житлово-комунального господарства у 2013 ро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152280" y="851040"/>
          <a:ext cx="889020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51040"/>
                    <a:ext cx="889020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2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січень-жовтень 2013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без власних надходжень бюджетних уста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838080"/>
          <a:ext cx="8763120" cy="5618160"/>
        </p:xfrm>
        <a:graphic>
          <a:graphicData uri="http://schemas.openxmlformats.org/drawingml/2006/table">
            <a:tbl>
              <a:tblPr/>
              <a:tblGrid>
                <a:gridCol w="2971800"/>
                <a:gridCol w="838080"/>
                <a:gridCol w="838440"/>
                <a:gridCol w="838080"/>
                <a:gridCol w="838080"/>
                <a:gridCol w="838440"/>
                <a:gridCol w="761760"/>
                <a:gridCol w="838440"/>
              </a:tblGrid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жовтень 2012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            2013 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жовтень 2013р. (станом на 31.10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-жовтня 2012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6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7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1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з власників трансп. засоб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6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8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4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в частині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10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7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51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1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22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9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39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38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9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2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13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9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82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3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9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забрудн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3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ого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00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5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88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1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6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1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5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85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-228600"/>
          <a:ext cx="9144000" cy="70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860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784872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4</a:t>
            </a:r>
            <a:br>
              <a:rPr sz="14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за видатками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 січні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жовтні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2013 ро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з власних надходжень бюджетних уста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280" y="914400"/>
          <a:ext cx="8839440" cy="5946840"/>
        </p:xfrm>
        <a:graphic>
          <a:graphicData uri="http://schemas.openxmlformats.org/drawingml/2006/table">
            <a:tbl>
              <a:tblPr/>
              <a:tblGrid>
                <a:gridCol w="2702160"/>
                <a:gridCol w="1023840"/>
                <a:gridCol w="931680"/>
                <a:gridCol w="932040"/>
                <a:gridCol w="931680"/>
                <a:gridCol w="744840"/>
                <a:gridCol w="744480"/>
                <a:gridCol w="82872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2013 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 – жовтень 2013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фінансув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фінансування до січня-жовт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лишки на рахунках головних розпорядник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но викон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4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23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02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29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72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і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90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 25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63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51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12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0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63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 господар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10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 1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 70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43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27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45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27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20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пітальні вклад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59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91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69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28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3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4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та комп'ютеризація виконавчих орган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3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1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9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21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5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іншим бюдже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5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 з міського б-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83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19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50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97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52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95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6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34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81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2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Графік 15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інансування та залишки по бюджету розвитку міського бюджету у 2013 роц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2"/>
          <p:cNvGraphicFramePr/>
          <p:nvPr/>
        </p:nvGraphicFramePr>
        <p:xfrm>
          <a:off x="279360" y="841320"/>
          <a:ext cx="8864640" cy="52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841320"/>
                    <a:ext cx="886464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>
                <a:solidFill>
                  <a:srgbClr val="ffffff"/>
                </a:solidFill>
                <a:latin typeface="Times New Roman"/>
              </a:rPr>
              <a:t>Дякуємо за увагу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 січень-жовтень 2013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280" y="609480"/>
          <a:ext cx="8839440" cy="6012000"/>
        </p:xfrm>
        <a:graphic>
          <a:graphicData uri="http://schemas.openxmlformats.org/drawingml/2006/table">
            <a:tbl>
              <a:tblPr/>
              <a:tblGrid>
                <a:gridCol w="3130560"/>
                <a:gridCol w="1013040"/>
                <a:gridCol w="957240"/>
                <a:gridCol w="955440"/>
                <a:gridCol w="1044720"/>
                <a:gridCol w="868320"/>
                <a:gridCol w="87012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            2013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ічень-жовтень 2013р.(станом на 31.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січня-жовт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2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 6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 16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 118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 047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57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93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63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7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76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0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6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35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80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93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9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а за розміщ тимчас. вільних кош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єстраційний збі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4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5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 2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4 93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 3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 57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 48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 04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 06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 98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2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5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86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 5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6 33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2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 03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 9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 69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 8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 80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овтень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2013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981000"/>
          <a:ext cx="8583480" cy="5646960"/>
        </p:xfrm>
        <a:graphic>
          <a:graphicData uri="http://schemas.openxmlformats.org/drawingml/2006/table">
            <a:tbl>
              <a:tblPr/>
              <a:tblGrid>
                <a:gridCol w="2417040"/>
                <a:gridCol w="1178640"/>
                <a:gridCol w="1178640"/>
                <a:gridCol w="1178640"/>
                <a:gridCol w="907200"/>
                <a:gridCol w="997560"/>
                <a:gridCol w="725760"/>
              </a:tblGrid>
              <a:tr h="611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менування показ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-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лану січня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овтня 2013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-жовт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іськи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 22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 76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 75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 01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Кіров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0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3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1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5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Ленін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4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0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4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.Нов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68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1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0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 99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 69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 89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 80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ього доход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0 5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5 8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 06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 7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жовтень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266760" y="1308240"/>
          <a:ext cx="8813880" cy="53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308240"/>
                    <a:ext cx="881388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жовтень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952560" y="1233360"/>
          <a:ext cx="7353360" cy="549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33360"/>
                    <a:ext cx="7353360" cy="54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січень-жовтень 2013р. у порівнянні з відповідним періодом 20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2"/>
          <p:cNvGraphicFramePr/>
          <p:nvPr/>
        </p:nvGraphicFramePr>
        <p:xfrm>
          <a:off x="152280" y="762120"/>
          <a:ext cx="8750520" cy="54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750520" cy="54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-жовтень 2013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4920" y="990720"/>
          <a:ext cx="8686800" cy="5715000"/>
        </p:xfrm>
        <a:graphic>
          <a:graphicData uri="http://schemas.openxmlformats.org/drawingml/2006/table">
            <a:tbl>
              <a:tblPr/>
              <a:tblGrid>
                <a:gridCol w="2695320"/>
                <a:gridCol w="973440"/>
                <a:gridCol w="1212840"/>
                <a:gridCol w="1211040"/>
                <a:gridCol w="865080"/>
                <a:gridCol w="738360"/>
                <a:gridCol w="990720"/>
              </a:tblGrid>
              <a:tr h="2908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н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жовтень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ня-жовтня 2012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2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93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41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 16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 0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 68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 97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09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 67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6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3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5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52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36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37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4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1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2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9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68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61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8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6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6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1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9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атків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 28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 8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 90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Б на соцзахист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 88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 65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 76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0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18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90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адмін.по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івняння структури фактичних видатків загального фонду за січень-жовтень 2013 р. з відповідним періодом 2012 р.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291960" y="914400"/>
          <a:ext cx="8089920" cy="35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914400"/>
                    <a:ext cx="808992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3035160" y="2895480"/>
          <a:ext cx="6972480" cy="341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5160" y="2895480"/>
                    <a:ext cx="69724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939960"/>
          <a:ext cx="8686800" cy="591804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46800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 за січень-жовтень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 – жовтень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січня – жовтня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 50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 31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без станцій швидкої медич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 38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3 22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3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 92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 26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 91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62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26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 82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 44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без станцій швидкої медич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 15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73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8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57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4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82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rish_M</cp:lastModifiedBy>
  <dcterms:modified xsi:type="dcterms:W3CDTF">2013-11-01T13:30:52Z</dcterms:modified>
  <cp:revision>7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