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755-9883-46C2-B2D4-975983B6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419-DCFA-4996-A8FF-269AC643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B43-A7DD-498D-9D62-AFB80C65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E1A-B2AE-4A9E-BC9F-B8CF0370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74B6-A9A8-4DBC-99DC-F9895C1B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E2D2-1DE8-42A9-90BC-9C1DA201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9B3E-5265-430F-BD93-C1ED20C6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AAE7-ABF9-4552-9609-A21AE819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20F8-44F2-4766-A798-8CF74191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C617-3667-4C34-A103-789A5CC1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EB2B-B80F-40EF-A5A8-BA4DE22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D55-0B6B-4EC4-8253-8BEE799C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B996-DFF8-47F2-B584-470CF79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2945-9431-4CCE-ABD9-18DD9CDE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8AB3-2250-4186-9487-142F946C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69C9-40AA-4CC6-BF52-C46433C7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D223-9A3A-41ED-A597-4CA5D6FA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79B7-FF33-4F45-A794-AF8207C4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FD0F-3D9D-4F82-A2AB-C45C173A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9803-8395-44AB-8DDD-3C7E10D0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6924D-8841-4274-923F-CEA5633A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4052-A5DF-407B-8589-EA817773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911-55B2-40CC-948A-55753767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8CA86-907F-4636-9881-76CA7137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F224-E726-4F2E-B96C-EA7D58A7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0B6A-9BED-49A5-893B-6C07B89E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3527-7300-476A-B6B9-DC6CA4C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2998-0194-40BF-A1A7-26C36E5A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0CAB-B3D2-498F-ADAF-E9BE6A67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A4912-071A-4C35-8897-FC385CAD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A52-4E0B-4776-B9DA-74349DB1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41C-7D63-4ADB-8B13-350D0D4E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57E-3CBA-41CC-8E8D-80096DB6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4E5-0AAC-4791-B8ED-0F8E48C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12F-0300-46E6-8955-27B75A15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5BE-B1D7-49D9-952E-684AD46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3A56-8503-4C99-8CB7-2DC0BDA42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2132-42C9-453E-829D-25EB3E73B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3735-984B-42AC-B416-84A025520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eec94"/>
                </a:solidFill>
                <a:latin typeface="Times New Roman"/>
              </a:rPr>
              <a:t>Презентац</a:t>
            </a:r>
            <a:r>
              <a:rPr b="1" i="1" lang="uk-UA" sz="7200" spc="-1" strike="noStrike">
                <a:solidFill>
                  <a:srgbClr val="feec94"/>
                </a:solidFill>
                <a:latin typeface="Times New Roman"/>
              </a:rPr>
              <a:t>ія виконання міського бюджету за січень – жовтень 2013 р.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жовтень 2013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838080"/>
          <a:ext cx="8839440" cy="6012000"/>
        </p:xfrm>
        <a:graphic>
          <a:graphicData uri="http://schemas.openxmlformats.org/drawingml/2006/table">
            <a:tbl>
              <a:tblPr/>
              <a:tblGrid>
                <a:gridCol w="2971800"/>
                <a:gridCol w="914400"/>
                <a:gridCol w="838440"/>
                <a:gridCol w="990360"/>
                <a:gridCol w="838440"/>
                <a:gridCol w="685800"/>
                <a:gridCol w="838080"/>
                <a:gridCol w="76212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-совано за січень-жовтень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січень-жовтень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-та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росту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я-жовтня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11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0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85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75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10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616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4 91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8 61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6 75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85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4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65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94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1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1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25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5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5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3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8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1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6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6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4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9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житлосерві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2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 №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 5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1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 24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 9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24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4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8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5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9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6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січні-жовтні 2013 року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52280" y="1143000"/>
          <a:ext cx="8839440" cy="5410080"/>
        </p:xfrm>
        <a:graphic>
          <a:graphicData uri="http://schemas.openxmlformats.org/drawingml/2006/table">
            <a:tbl>
              <a:tblPr/>
              <a:tblGrid>
                <a:gridCol w="2210040"/>
                <a:gridCol w="914400"/>
                <a:gridCol w="914400"/>
                <a:gridCol w="914400"/>
                <a:gridCol w="914400"/>
                <a:gridCol w="914400"/>
                <a:gridCol w="533160"/>
                <a:gridCol w="685800"/>
                <a:gridCol w="838440"/>
              </a:tblGrid>
              <a:tr h="428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жовтень 2012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жовт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 –жовтень  2012 рок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коштів на рахунку ГУЖКГ та одержувач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т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47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7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0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2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2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9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6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0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6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5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209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31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93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55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65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92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5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5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5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5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7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я з ДБ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6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7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5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7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3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5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3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11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нансування та залишки по  видатках загального фонду по Головному управлінню житлово-комунального господарства у 2013 ро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152280" y="851040"/>
          <a:ext cx="889020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889020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2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січень-жовтень 2013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без власних надходжень бюджетних уста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838080"/>
          <a:ext cx="8763120" cy="5618160"/>
        </p:xfrm>
        <a:graphic>
          <a:graphicData uri="http://schemas.openxmlformats.org/drawingml/2006/table">
            <a:tbl>
              <a:tblPr/>
              <a:tblGrid>
                <a:gridCol w="2971800"/>
                <a:gridCol w="838080"/>
                <a:gridCol w="838440"/>
                <a:gridCol w="838080"/>
                <a:gridCol w="838080"/>
                <a:gridCol w="838440"/>
                <a:gridCol w="761760"/>
                <a:gridCol w="838440"/>
              </a:tblGrid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жовтень 2012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            2013 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жовтень 2013р. (станом на 31.10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жовтня 2012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7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з власників трансп. засоб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6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8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4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в частині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10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7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5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1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2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9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39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38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9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2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13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9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82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3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9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забрудн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ого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00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5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88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1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6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1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5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85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-228600"/>
          <a:ext cx="9144000" cy="70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860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78487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4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за видатками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 січні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жовтні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3 ро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з власних надходжень бюджетних уста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280" y="914400"/>
          <a:ext cx="8839440" cy="5946840"/>
        </p:xfrm>
        <a:graphic>
          <a:graphicData uri="http://schemas.openxmlformats.org/drawingml/2006/table">
            <a:tbl>
              <a:tblPr/>
              <a:tblGrid>
                <a:gridCol w="2702160"/>
                <a:gridCol w="1023840"/>
                <a:gridCol w="931680"/>
                <a:gridCol w="932040"/>
                <a:gridCol w="931680"/>
                <a:gridCol w="744840"/>
                <a:gridCol w="744480"/>
                <a:gridCol w="8287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2013 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 – жовтень 2013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фінансування до січня-жовт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лишки на рахунках головних розпорядник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но викон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4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23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02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2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72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90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 25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63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51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12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0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3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пода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10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 1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 70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43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27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45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27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20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9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91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9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28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4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3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1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9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21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5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іншим 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5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-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83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19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50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97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52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95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6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34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81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2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рафік 15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інансування та залишки по бюджету розвитку міського бюджету у 2013 роц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2"/>
          <p:cNvGraphicFramePr/>
          <p:nvPr/>
        </p:nvGraphicFramePr>
        <p:xfrm>
          <a:off x="279360" y="841320"/>
          <a:ext cx="8864640" cy="52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841320"/>
                    <a:ext cx="886464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imes New Roman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 січень-жовтень 2013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280" y="609480"/>
          <a:ext cx="8839440" cy="6012000"/>
        </p:xfrm>
        <a:graphic>
          <a:graphicData uri="http://schemas.openxmlformats.org/drawingml/2006/table">
            <a:tbl>
              <a:tblPr/>
              <a:tblGrid>
                <a:gridCol w="3130560"/>
                <a:gridCol w="1013040"/>
                <a:gridCol w="957240"/>
                <a:gridCol w="955440"/>
                <a:gridCol w="1044720"/>
                <a:gridCol w="868320"/>
                <a:gridCol w="8701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            201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ічень-жовтень 2013р.(станом на 31.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січня-жовт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 6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 16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 118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 047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57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9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63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7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76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35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80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93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9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4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5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 2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4 9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 3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 57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 04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 06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 98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2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5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86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 5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6 33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2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 03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 9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 69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 8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 80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овтень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2013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981000"/>
          <a:ext cx="8583480" cy="5646960"/>
        </p:xfrm>
        <a:graphic>
          <a:graphicData uri="http://schemas.openxmlformats.org/drawingml/2006/table">
            <a:tbl>
              <a:tblPr/>
              <a:tblGrid>
                <a:gridCol w="2417040"/>
                <a:gridCol w="1178640"/>
                <a:gridCol w="1178640"/>
                <a:gridCol w="1178640"/>
                <a:gridCol w="907200"/>
                <a:gridCol w="997560"/>
                <a:gridCol w="725760"/>
              </a:tblGrid>
              <a:tr h="611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менування показ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-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лану січня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овтня 2013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-жовт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іськи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 2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 76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 75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 01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Кіров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0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3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1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5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Ленін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4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0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4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.Н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68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1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0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 99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 6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 89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 80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ього доход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0 5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5 8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 06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 7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жовтень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266760" y="1308240"/>
          <a:ext cx="8813880" cy="53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308240"/>
                    <a:ext cx="881388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жовтень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952560" y="1233360"/>
          <a:ext cx="7353360" cy="549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33360"/>
                    <a:ext cx="7353360" cy="54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січень-жовтень 2013р. у порівнянні з відповідним періодом 20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152280" y="762120"/>
          <a:ext cx="8750520" cy="54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750520" cy="54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жовтень 2013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4920" y="990720"/>
          <a:ext cx="8686800" cy="5715000"/>
        </p:xfrm>
        <a:graphic>
          <a:graphicData uri="http://schemas.openxmlformats.org/drawingml/2006/table">
            <a:tbl>
              <a:tblPr/>
              <a:tblGrid>
                <a:gridCol w="2695320"/>
                <a:gridCol w="973440"/>
                <a:gridCol w="1212840"/>
                <a:gridCol w="1211040"/>
                <a:gridCol w="865080"/>
                <a:gridCol w="738360"/>
                <a:gridCol w="990720"/>
              </a:tblGrid>
              <a:tr h="290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н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жовтен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ня-жовтня 2012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2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93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4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 16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 0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 68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97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09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 67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6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3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5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2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36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37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2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9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68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61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8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6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6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1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 28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 8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 90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Б на соцзахист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 88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 65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 76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0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8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0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адмін.по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івняння структури фактичних видатків загального фонду за січень-жовтень 2013 р. з відповідним періодом 2012 р.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291960" y="914400"/>
          <a:ext cx="8089920" cy="35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914400"/>
                    <a:ext cx="808992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3035160" y="2895480"/>
          <a:ext cx="6972480" cy="341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5160" y="2895480"/>
                    <a:ext cx="69724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939960"/>
          <a:ext cx="8686800" cy="591804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46800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 за січень-жовтень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 – жовтень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січня – жовтня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 50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 31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без станцій швидкої меди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 38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3 22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 92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 26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 91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62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26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82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 44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без станцій швидкої меди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 15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73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8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7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4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82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rish_M</cp:lastModifiedBy>
  <dcterms:modified xsi:type="dcterms:W3CDTF">2013-11-01T13:30:52Z</dcterms:modified>
  <cp:revision>7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