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0388-0B3F-4F85-BE0D-BC1C69DD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EF48-DC27-4970-BF8E-02C50310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FF0E-7580-4A64-81EF-BC185A91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F0A4-31DF-4308-8794-350632FE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47E1-D325-4854-B1F9-DF9501CB8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339E-C455-4049-9020-CE2E3A11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221D-F68E-4A77-8BCC-229E972E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3FE7-726A-41FF-87AB-795E790F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1352-CF80-4BEE-A362-DE860BAD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0F7A-5F2A-440E-9A1B-E319070B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030C-5B9C-4D56-A497-390E72D2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E3F6-6B55-44C0-9585-9A3A961A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F995-AB96-4BA3-8E87-41561A3D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DF02-3EB4-4965-8C94-00E50098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BA2C-C85A-430B-93CC-BFD4499B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C8DF-7484-4E0A-882A-C8D77A10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1371-FAED-4217-8949-FA7F1904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5E433-886C-4A8F-BB54-045957926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1610A-7106-4998-9BA3-F73103CB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533CA-0E74-4722-ADCC-C0764160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F4615-C6DC-47FD-A9ED-DD9BFFD0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481F3-BE47-4C3A-801A-AAF7CDFC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16DC-2D1F-451F-82F9-5BCC2F54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0604E-D063-4AF8-AA92-91D24729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CD73A-7EE2-4B9C-9DBD-FF5BAAA6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72F95-7FDD-4DD0-A64A-B4EF9185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D0FF0-C6BE-4128-A4A3-004DE99B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0318F-6927-4A56-BAEE-6D614CF4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B01AF-6176-4331-8539-EC958420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4A285-9589-4041-8CAD-9C93E39D2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462B-0B49-492B-AF7F-2F490AD3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99FF-5008-4AA6-98CE-AB8F9C62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99E9-0AD3-497F-8F39-81296A10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274D-497E-4E7E-B838-7F7107D5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2666-8481-4C97-A1BA-F854AA12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4454-ED03-454F-AFF5-A9795F2F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3E1C-EE50-4EA1-ACA7-96DB7028A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5261-37D3-4CBC-BC52-00CBCA4003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E5B7-2AC0-460F-89CC-D2687BD950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eec94"/>
                </a:solidFill>
                <a:latin typeface="Times New Roman"/>
              </a:rPr>
              <a:t>Презентац</a:t>
            </a:r>
            <a:r>
              <a:rPr b="1" i="1" lang="uk-UA" sz="7200" spc="-1" strike="noStrike">
                <a:solidFill>
                  <a:srgbClr val="feec94"/>
                </a:solidFill>
                <a:latin typeface="Times New Roman"/>
              </a:rPr>
              <a:t>ія виконання міського бюджету за січень – листопад 2013 р.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аблиця №9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иконання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загального та спеціального фондів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міськог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юджету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іровограда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о видатках на житлово-комунальне сподарство за січень-жовтень 2013 року по головному розпоряднику – Головному управлінню ЖК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52280" y="838080"/>
          <a:ext cx="8839440" cy="6012000"/>
        </p:xfrm>
        <a:graphic>
          <a:graphicData uri="http://schemas.openxmlformats.org/drawingml/2006/table">
            <a:tbl>
              <a:tblPr/>
              <a:tblGrid>
                <a:gridCol w="2971800"/>
                <a:gridCol w="914400"/>
                <a:gridCol w="838440"/>
                <a:gridCol w="990360"/>
                <a:gridCol w="838440"/>
                <a:gridCol w="685800"/>
                <a:gridCol w="838080"/>
                <a:gridCol w="762120"/>
              </a:tblGrid>
              <a:tr h="77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інан-совано за січень-листопад 2012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3 рік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фінансовано січень-листопад 2013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но викорис-та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інансування до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ічного план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росту до фак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іченя-листопада 2012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лишки коштів на рахунках ГУЖКГ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01.12.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  Ж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51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 03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16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52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64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Загальний фонд, у т.ч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8 21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4 88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7 78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8 24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7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0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 54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агоустрій міста, 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987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40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89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37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2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имання доріг та вивезення смітт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32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9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67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15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имання зелених насадж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10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58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56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99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имання кладови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луг. мереж зовнішнього освітл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24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3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8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9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ня кредиторської заборгова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ін. допомога комунальним п-вам, 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22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48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88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86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Д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71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9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52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51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ПУ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 “Кіровограджитлосервіс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 “Трест зеленого господарства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 “Теплоенергетик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КПЄЗО “Міськсвітло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П №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Спеціальний фонд </a:t>
                      </a:r>
                      <a:r>
                        <a:rPr b="1" i="1" lang="uk-UA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(б-т розвитку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9 30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4 15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9 37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 28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6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0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 09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премонт житлового фон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99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53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48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04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44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агоустрі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2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1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br>
              <a:rPr sz="1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інансування на утримання та ремонт доріг у січні-листопаді 2013 року  по Головному управлінню житлово-комунального господарства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600200"/>
          <a:ext cx="4030560" cy="4525920"/>
        </p:xfrm>
        <a:graphic>
          <a:graphicData uri="http://schemas.openxmlformats.org/drawingml/2006/table">
            <a:tbl>
              <a:tblPr/>
              <a:tblGrid>
                <a:gridCol w="4030560"/>
              </a:tblGrid>
              <a:tr h="4525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52280" y="1143000"/>
          <a:ext cx="8839440" cy="5410080"/>
        </p:xfrm>
        <a:graphic>
          <a:graphicData uri="http://schemas.openxmlformats.org/drawingml/2006/table">
            <a:tbl>
              <a:tblPr/>
              <a:tblGrid>
                <a:gridCol w="2210040"/>
                <a:gridCol w="914400"/>
                <a:gridCol w="914400"/>
                <a:gridCol w="914400"/>
                <a:gridCol w="914400"/>
                <a:gridCol w="914400"/>
                <a:gridCol w="533160"/>
                <a:gridCol w="685800"/>
                <a:gridCol w="838440"/>
              </a:tblGrid>
              <a:tr h="428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 за січень-листопад 2012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 на  2013 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ічень-листопад 2013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фінансування до річного план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до факту за січень –листопад  2012 рок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лишки коштів на рахунку ГУЖКГ та одержувач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інанс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но використа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ОМ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34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37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80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86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3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2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альний фон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54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445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74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64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58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5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іальний фонд, </a:t>
                      </a: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т.ч.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885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931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426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197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875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321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жні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6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0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7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6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4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 розвит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8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6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88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1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4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венція з ДБ, у т.ч.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99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16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26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81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97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84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атки спожи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5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2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55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0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3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6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атки розвит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54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23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71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91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63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8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11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інансування та залишки по  видатках загального фонду по Головному управлінню житлово-комунального господарства у 2013 роц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2"/>
          <p:cNvGraphicFramePr/>
          <p:nvPr/>
        </p:nvGraphicFramePr>
        <p:xfrm>
          <a:off x="152280" y="851040"/>
          <a:ext cx="8890200" cy="566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51040"/>
                    <a:ext cx="8890200" cy="56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ДОХОДИ спецфонду- Таблиця №12</a:t>
            </a: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спеціального фонду міського бюджету м.Кіровограда   за доходами  за січень-листопад 2013р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без власних надходжень бюджетних устан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28600" y="838080"/>
          <a:ext cx="8763120" cy="5618160"/>
        </p:xfrm>
        <a:graphic>
          <a:graphicData uri="http://schemas.openxmlformats.org/drawingml/2006/table">
            <a:tbl>
              <a:tblPr/>
              <a:tblGrid>
                <a:gridCol w="2971800"/>
                <a:gridCol w="838080"/>
                <a:gridCol w="838440"/>
                <a:gridCol w="838080"/>
                <a:gridCol w="838080"/>
                <a:gridCol w="838440"/>
                <a:gridCol w="761760"/>
                <a:gridCol w="838440"/>
              </a:tblGrid>
              <a:tr h="215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за січень-листопад2012р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на             2013 р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ічень-листопад 2013р. (станом на 29.11.1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росту до факту січня-листопада 2012 рок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ідхиленн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рожні фон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7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6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3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3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9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аток з власників трансп. засоб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за першу реєстрацію трансп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1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8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8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6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1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в частині провадження торговельної діяльності нафтопродуктами              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юджет розвит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83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71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31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92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1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Єдиний подато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39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91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79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00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21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дходження від відчуження майн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19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1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3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17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шти від продажу земельних ділян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4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98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шти від пайової участі замовник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7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аток на нерухоме май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нд охорони навколишнього природного середовищ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2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1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ошові стягнення за шко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кологічний подато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за забрудненн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нші надходження до фонду охоро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ільові фон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3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ом спеціальнийого фон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 10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 53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 91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 33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1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бвен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16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4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12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67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45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Object 2"/>
          <p:cNvGraphicFramePr/>
          <p:nvPr/>
        </p:nvGraphicFramePr>
        <p:xfrm>
          <a:off x="0" y="-241200"/>
          <a:ext cx="9191520" cy="694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41200"/>
                    <a:ext cx="9191520" cy="694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7848720" y="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рафі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14</a:t>
            </a:r>
            <a:br>
              <a:rPr sz="14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спеціального фонду міського бюджету м.Кіровограда  за видатками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у січні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300" spc="-1" strike="noStrike">
                <a:solidFill>
                  <a:srgbClr val="000000"/>
                </a:solidFill>
                <a:latin typeface="Arial"/>
              </a:rPr>
              <a:t>листопаді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2013 рок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без власних надходжень бюджетних устан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52280" y="914400"/>
          <a:ext cx="8839440" cy="5932440"/>
        </p:xfrm>
        <a:graphic>
          <a:graphicData uri="http://schemas.openxmlformats.org/drawingml/2006/table">
            <a:tbl>
              <a:tblPr/>
              <a:tblGrid>
                <a:gridCol w="2702160"/>
                <a:gridCol w="1023840"/>
                <a:gridCol w="931680"/>
                <a:gridCol w="932040"/>
                <a:gridCol w="931680"/>
                <a:gridCol w="744840"/>
                <a:gridCol w="744480"/>
                <a:gridCol w="828720"/>
              </a:tblGrid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на 2013 рі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ічень – листопад 2013 ро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фінансування до річного план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сту фінансування до січня-листопа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2 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лишки на рахунках головних розпорядник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фінансова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ично викона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юджет розвитку,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 них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 43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 02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62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41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7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208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і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17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 17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 82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74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08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хорона здоров'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59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 30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87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84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03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житлово-комунальне господар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06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 93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 97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 72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 25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емонт дорі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36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 88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 31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6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у 2,2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64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ультура і фізична культу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6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35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2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5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ціальний захис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9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0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апітальні вкладе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16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 91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 26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у 3,1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88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вестиційні проекти (співфін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84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84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84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 84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у 2,7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нески у статутні капіта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4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64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ші  видатки та комп'ютеризація виконавчих орган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 32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 18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94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52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озробка та коригування містобудівної документа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6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6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5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у 5,5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бвенції обл.та район.бюджета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3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3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0,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   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рожн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40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27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4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Цільові фонд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0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2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ом видатків з міського б-т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 83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 22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 21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18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03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бвенції з ДБ та обл. бюджет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95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76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99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99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00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Графік 15</a:t>
            </a:r>
            <a:br>
              <a:rPr sz="1400"/>
            </a:b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Фінансування та залишки по бюджету розвитку міського бюджету у 2013 роц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2"/>
          <p:cNvGraphicFramePr/>
          <p:nvPr/>
        </p:nvGraphicFramePr>
        <p:xfrm>
          <a:off x="279360" y="841320"/>
          <a:ext cx="8775720" cy="526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841320"/>
                    <a:ext cx="8775720" cy="52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09480" y="23320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8000" spc="-1" strike="noStrike">
                <a:solidFill>
                  <a:srgbClr val="ffffff"/>
                </a:solidFill>
                <a:latin typeface="Times New Roman"/>
              </a:rPr>
              <a:t>Дякуємо за увагу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№1</a:t>
            </a:r>
            <a:br>
              <a:rPr sz="18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загального фонду міського бюджету м.Кіровограда  за доходами  за  січень-листопад 2013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2280" y="609480"/>
          <a:ext cx="8839440" cy="6012000"/>
        </p:xfrm>
        <a:graphic>
          <a:graphicData uri="http://schemas.openxmlformats.org/drawingml/2006/table">
            <a:tbl>
              <a:tblPr/>
              <a:tblGrid>
                <a:gridCol w="3130560"/>
                <a:gridCol w="1013040"/>
                <a:gridCol w="957240"/>
                <a:gridCol w="955440"/>
                <a:gridCol w="1044720"/>
                <a:gridCol w="868320"/>
                <a:gridCol w="870120"/>
              </a:tblGrid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н на             2013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ічень-листопад 2013р.(станом на 29.1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осту до факту січня-листопа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12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акт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ідхиле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виконан-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ДФ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6 61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9 55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4 86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 68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даток на прибуток та частина прибутку комунальних підпр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єм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та за користування надр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та за землю, в т.ч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 11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 31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 75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56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емельний подат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75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83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11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1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рендна пла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 35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48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63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4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ісцеві податки і збор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53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08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72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5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та за розміщ тимчас. вільних кошт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дмінштрафи та інші санк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еєстраційний збір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дходж.від орендної плати за ЦМ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7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36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8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7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ержавне мит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ші надходженн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0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ього власні та закріплені дохо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5 29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3 28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6 47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6 81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тація вирівнюва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 48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 08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 61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 47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даткові дота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76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11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11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ього доходів загального фон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1 55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6 48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6 20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0 28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бвенції з ДБ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0 99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3 80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2 66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 14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Таблиця №2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Виконання загального фонду зведеного бюджету м.Кіровограда за доходами 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за січень 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стопад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2013 ро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79280" y="981000"/>
          <a:ext cx="8583480" cy="5646960"/>
        </p:xfrm>
        <a:graphic>
          <a:graphicData uri="http://schemas.openxmlformats.org/drawingml/2006/table">
            <a:tbl>
              <a:tblPr/>
              <a:tblGrid>
                <a:gridCol w="2417040"/>
                <a:gridCol w="1178640"/>
                <a:gridCol w="1178640"/>
                <a:gridCol w="1178640"/>
                <a:gridCol w="907200"/>
                <a:gridCol w="997560"/>
                <a:gridCol w="725760"/>
              </a:tblGrid>
              <a:tr h="6112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1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виконан-ня до річного план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плану січня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опада 2013 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к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на січень-листопа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хиле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іський бюдж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6 791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2 35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2 08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0 27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 Кіровського р-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50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4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81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23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 Ленінського р-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36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62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94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7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 с.Нов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90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83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11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вен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 99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 80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 66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 14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ього доході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5 55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1 66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8 62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3 04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3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власних та закріплених доходів до міського бюджету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2012р. та січень-листопад 2013р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2"/>
          <p:cNvGraphicFramePr/>
          <p:nvPr/>
        </p:nvGraphicFramePr>
        <p:xfrm>
          <a:off x="17640" y="1135080"/>
          <a:ext cx="8888400" cy="526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135080"/>
                    <a:ext cx="8888400" cy="52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4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податку на доходи фізичних осіб до міського бюджету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2012р. та січень-листопад 2013р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2"/>
          <p:cNvGraphicFramePr/>
          <p:nvPr/>
        </p:nvGraphicFramePr>
        <p:xfrm>
          <a:off x="38160" y="952560"/>
          <a:ext cx="8648640" cy="567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60" y="952560"/>
                    <a:ext cx="8648640" cy="56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плати за землю до міського бюджету в розрізі земельного податку т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орендної пла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(без с.Нового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січень-листопад 2013р. у порівнянні з відповідним періодом 20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р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2"/>
          <p:cNvGraphicFramePr/>
          <p:nvPr/>
        </p:nvGraphicFramePr>
        <p:xfrm>
          <a:off x="155520" y="762120"/>
          <a:ext cx="8836200" cy="57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520" y="762120"/>
                    <a:ext cx="883620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датки - Таблиця №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конання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гального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фонду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міськог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юджету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іровогра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даткам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 січень-листопад 2013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4920" y="990720"/>
          <a:ext cx="8686800" cy="5751360"/>
        </p:xfrm>
        <a:graphic>
          <a:graphicData uri="http://schemas.openxmlformats.org/drawingml/2006/table">
            <a:tbl>
              <a:tblPr/>
              <a:tblGrid>
                <a:gridCol w="2695320"/>
                <a:gridCol w="973440"/>
                <a:gridCol w="1212840"/>
                <a:gridCol w="1211040"/>
                <a:gridCol w="865080"/>
                <a:gridCol w="738360"/>
                <a:gridCol w="990720"/>
              </a:tblGrid>
              <a:tr h="2840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 н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1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і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ічень-листопад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1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р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чного план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у до факт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ічня-листопада 2012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рган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ісцевог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мовряду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86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23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51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сві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 58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9 32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2 40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доров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'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без СШМД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 19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 21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 20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цзахист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безпеч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72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3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58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льтур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стец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52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34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47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ізкультур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4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64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75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итлов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мунальне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сп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88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36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24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рожнє господарство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ан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2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65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31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нш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6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3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6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атків міського бюдж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 10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9 27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6 96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венції, у т.ч.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венції з ДБ на соцзахист, 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1 32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 73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9 67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енсація за пільговий проїз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78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82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62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інансування адмін.по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1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5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іаграма №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br>
              <a:rPr sz="20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рівняння структури фактичних видатків загального фонду за січень-листопад 2013 р. з відповідним періодом 2012 р. в розрізі напрямків використ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295200" y="1066680"/>
          <a:ext cx="7985160" cy="542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00" y="1066680"/>
                    <a:ext cx="7985160" cy="542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3"/>
          <p:cNvGraphicFramePr/>
          <p:nvPr/>
        </p:nvGraphicFramePr>
        <p:xfrm>
          <a:off x="3035160" y="3200400"/>
          <a:ext cx="6972480" cy="341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35160" y="3200400"/>
                    <a:ext cx="69724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Таблиця №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br>
              <a:rPr sz="1400"/>
            </a:b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орівняння видатків на заробітну плату та енергоносії по міському бюдже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28600" y="939960"/>
          <a:ext cx="8686800" cy="5892480"/>
        </p:xfrm>
        <a:graphic>
          <a:graphicData uri="http://schemas.openxmlformats.org/drawingml/2006/table">
            <a:tbl>
              <a:tblPr/>
              <a:tblGrid>
                <a:gridCol w="3886200"/>
                <a:gridCol w="1143000"/>
                <a:gridCol w="1066680"/>
                <a:gridCol w="1219320"/>
                <a:gridCol w="1371600"/>
              </a:tblGrid>
              <a:tr h="4345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 за січень-листопад 2012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ічень – листопад 2013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січня – листопада 2012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хил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и рос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яг фінансування зарплати та енергоносії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 30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3 14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83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.ч. без станцій швидкої медичної допомо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5 960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8 82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86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обітна плата, у 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1 79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6 80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ві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 50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 18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67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хорона здоров"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 11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 28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3 83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.ч. без станцій швидкої медичної допомо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 15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 20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4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нергоносії, у 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51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34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 17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луги теплопостач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25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03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 21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ordeeva_N</cp:lastModifiedBy>
  <dcterms:modified xsi:type="dcterms:W3CDTF">2013-12-06T12:51:22Z</dcterms:modified>
  <cp:revision>7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