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7EB-876E-4AD4-9319-B1C0D98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F6C-21B0-468C-8BF3-43B0A7C7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EBF-7D0D-4236-B44D-C6D42294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CAB-D7C9-4999-88BA-F707F495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4EB8-0805-4CE6-98D7-318220C5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CD1-44D0-418D-9507-2397D3CF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D526-5BF5-4DB4-9A16-F3C84008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E2FE-780A-4891-B749-EF70A138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CE47-1128-4C6E-8096-0CEF4DB6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2B3F-3D70-4EB0-A654-589D47CC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03E-8ADD-4B2B-AD42-A12A170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734-C6EE-458F-9EEB-0C3147C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B6B3-2389-48D7-A8AD-7909AB9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235F-F768-4A69-9841-AC11AB02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FED2-40A5-44EC-8432-35882D8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D97D-1B90-4236-8A9A-E558A3DB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5B82-7390-4626-9C9B-379539AF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6612-8FE9-4B68-92B4-A9C0C992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8128-09F1-494A-AC86-F044274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9AA5-BD6C-41D2-9CE2-1B4EB755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9EC7-D43D-456E-911D-B583C82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2083-F157-4619-90CE-AFD3147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4AF-BFF1-48EB-BB25-1849A47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17C4-DC82-4E60-962C-4C33AA7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5A80-BF9A-4301-9C85-7479203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78AD-5F8E-4EA8-B596-076D174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F157-6356-419C-9FA4-5297D6E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0612-741A-4231-B5D2-913A2717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369D-7C7E-4815-BF30-94A4D403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B656-4609-4DAF-9818-55356267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F94-0CE0-49A7-AD42-975A1D21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590-E640-4294-BC8B-CD73B666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EAD-85B1-495F-B5CA-87AB61DC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A20-E60E-4D70-8679-DFFB0E6F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077-4BA2-4B54-A0B9-7E046AC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7BC-C74D-4D18-896E-ED0305C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B41-9E49-425E-8100-F1A326FE8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02AE-FEBB-4247-9B7A-B21520C84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E0FE-1B6D-4C71-8FF9-423F89B408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за січень – серпень 2013 р.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серпень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280" y="838080"/>
          <a:ext cx="8839440" cy="601200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серпень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серп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я-серпеня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9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354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0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2 7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9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5 0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 38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62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0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6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8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35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8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6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5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6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0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3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7 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 63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 0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6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37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3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серпні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1143000"/>
          <a:ext cx="883944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914400"/>
                <a:gridCol w="914400"/>
                <a:gridCol w="914400"/>
                <a:gridCol w="838080"/>
                <a:gridCol w="609480"/>
                <a:gridCol w="671760"/>
                <a:gridCol w="852480"/>
              </a:tblGrid>
              <a:tr h="448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серпень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серп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серпень  2012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712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7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8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0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31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92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61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4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6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7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7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5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11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нансування та залишки по  видатках загального фонду по Головному управлінню житлово-комунального господарства у 2013 ро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154080" y="844560"/>
          <a:ext cx="8621640" cy="57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844560"/>
                    <a:ext cx="862164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серпень 2013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228600" y="533520"/>
          <a:ext cx="8763120" cy="608328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серпень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серпень 2013р. (станом на 30.08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серпня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3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6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2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18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4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7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4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45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6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54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8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1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42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і надходження бюдж. уста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8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6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86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ого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4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0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62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5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9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2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Object 2"/>
          <p:cNvGraphicFramePr/>
          <p:nvPr/>
        </p:nvGraphicFramePr>
        <p:xfrm>
          <a:off x="0" y="0"/>
          <a:ext cx="9144000" cy="708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6781680" y="304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видатками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серпні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52280" y="685800"/>
          <a:ext cx="8839440" cy="6022800"/>
        </p:xfrm>
        <a:graphic>
          <a:graphicData uri="http://schemas.openxmlformats.org/drawingml/2006/table">
            <a:tbl>
              <a:tblPr/>
              <a:tblGrid>
                <a:gridCol w="2702160"/>
                <a:gridCol w="1023840"/>
                <a:gridCol w="931680"/>
                <a:gridCol w="932040"/>
                <a:gridCol w="931680"/>
                <a:gridCol w="744840"/>
                <a:gridCol w="744480"/>
                <a:gridCol w="8287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3 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 – серпень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фінансування до січня-серп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ки на рахунках головних розпорядни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1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4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9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36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2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 57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2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20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33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7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-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15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3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20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7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00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3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7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26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7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6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00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,8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2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6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1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1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,1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іншим 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-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03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3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8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сні надходження бюдж. уст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6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3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4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5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43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5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 бюджету розвитку міського бюджету у 2013 ро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2"/>
          <p:cNvGraphicFramePr/>
          <p:nvPr/>
        </p:nvGraphicFramePr>
        <p:xfrm>
          <a:off x="154080" y="847800"/>
          <a:ext cx="8823240" cy="58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847800"/>
                    <a:ext cx="882324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9280" y="22096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 січень-серпень 2013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609480"/>
          <a:ext cx="8839440" cy="601200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ічень-серпень 2013р.(станом на 30.08.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січня-серп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4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 95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 2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 7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65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8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32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79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4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89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 9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 98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6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9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76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 510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1 67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 9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 7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 05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 61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9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 6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пен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981000"/>
          <a:ext cx="8735760" cy="5646960"/>
        </p:xfrm>
        <a:graphic>
          <a:graphicData uri="http://schemas.openxmlformats.org/drawingml/2006/table">
            <a:tbl>
              <a:tblPr/>
              <a:tblGrid>
                <a:gridCol w="2245680"/>
                <a:gridCol w="1095840"/>
                <a:gridCol w="1095840"/>
                <a:gridCol w="1095480"/>
                <a:gridCol w="842760"/>
                <a:gridCol w="927360"/>
                <a:gridCol w="674280"/>
                <a:gridCol w="758520"/>
              </a:tblGrid>
              <a:tr h="611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пня 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-серп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серп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 2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 8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 0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 7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5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4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8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05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 6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 9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 67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 19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 1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1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 9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серп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2"/>
          <p:cNvGraphicFramePr/>
          <p:nvPr/>
        </p:nvGraphicFramePr>
        <p:xfrm>
          <a:off x="252360" y="1306440"/>
          <a:ext cx="87393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306440"/>
                    <a:ext cx="87393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серп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171360" y="1235160"/>
          <a:ext cx="88344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235160"/>
                    <a:ext cx="88344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серпень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152280" y="762120"/>
          <a:ext cx="8991720" cy="55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991720" cy="55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серпень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4920" y="990720"/>
          <a:ext cx="8686800" cy="5714640"/>
        </p:xfrm>
        <a:graphic>
          <a:graphicData uri="http://schemas.openxmlformats.org/drawingml/2006/table">
            <a:tbl>
              <a:tblPr/>
              <a:tblGrid>
                <a:gridCol w="2695320"/>
                <a:gridCol w="973440"/>
                <a:gridCol w="1212840"/>
                <a:gridCol w="1211040"/>
                <a:gridCol w="865080"/>
                <a:gridCol w="738360"/>
                <a:gridCol w="990720"/>
              </a:tblGrid>
              <a:tr h="29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серп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серпня 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638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 9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 1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 5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1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9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3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4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3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9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8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2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1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 1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 39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 8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 6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 3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6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серпень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297000" y="914400"/>
          <a:ext cx="8051760" cy="34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914400"/>
                    <a:ext cx="805176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3"/>
          <p:cNvGraphicFramePr/>
          <p:nvPr/>
        </p:nvGraphicFramePr>
        <p:xfrm>
          <a:off x="3040200" y="2897280"/>
          <a:ext cx="7007040" cy="396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0200" y="2897280"/>
                    <a:ext cx="70070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28600" y="1219320"/>
          <a:ext cx="8686800" cy="54100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4842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серпень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серп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серпня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 71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 2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5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7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 06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3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59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6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5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 04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9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9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970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19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9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50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6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vec_N</cp:lastModifiedBy>
  <dcterms:modified xsi:type="dcterms:W3CDTF">2013-09-06T11:27:54Z</dcterms:modified>
  <cp:revision>7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