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B66-1308-4708-9422-9851E5B4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B29-52FB-4CCB-B5C7-FCC78A6E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5F6-5005-4C00-85C5-F049F676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54C-DBF8-4556-9446-5DCB375A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2D37-D221-44BF-9289-14C18F3D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FB75-6801-4A5A-90F5-7280F251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259D-CA0F-445C-98E7-7721BAFD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772A-16EB-4646-99DF-2E97D2F7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2730-AEB7-4088-AED5-1DFAEE05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92E1-8DB4-48C3-A1A5-B07D79E4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F3FB-96AD-4375-80E9-74C548BD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C18-027D-42E2-A146-59331EAF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91CD-C7EC-4576-8843-0838E96B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92EB-64F2-429B-9CE6-F0FE7DAF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6261-D1F5-4828-B3E8-2C08EA28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0A65-93F1-4E1D-98C8-3CB77BFA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3C56-F731-42E0-8B8C-2737F112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A91E1-2A05-486F-ACD7-ABFDF021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F71F-3BB9-4731-9211-2CA418CB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D0061-A4DC-4C97-9F94-D5E2F3EA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A36D1-38DD-4836-A352-9AC22AA6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4D85-E6E3-43D5-A0F4-D25325CF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6CC-D477-4E97-B9C8-EE2EF3CC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685F-E14C-4B42-BAB4-E7011492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77C9E-2D9E-49D7-945B-E15B5D9D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5D045-B209-4B6F-916C-8ECBB7A2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08E6-1113-40FD-AFD7-A4746FBC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7D93-3002-4552-B33E-468A153A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1608-C017-4FC8-AC8E-CDB03F1B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8D11-62A2-49D1-BFDF-E7698343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608-AA35-4639-9436-66DCB41B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CB3-7071-4785-A2EC-BB49ADE0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F36-6450-4570-9C40-D98D23F3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0F5-DED6-487A-B116-D5574A3B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E2C-494C-4306-80F4-5602A22B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174-8CA7-4C18-883A-F8FA3CAB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CCEC-2571-4D41-BCDB-9B9F932AE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854A-41DB-40FC-9559-D355EA08AA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0FF0-2E32-431C-91F1-8834FD1244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cc"/>
                </a:solidFill>
                <a:latin typeface="Tahoma"/>
              </a:rPr>
              <a:t>Презентац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ія виконання міського бюджету за січень – серпень 2013 р.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січень-серпень 2013 року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52280" y="838080"/>
          <a:ext cx="8839440" cy="6012000"/>
        </p:xfrm>
        <a:graphic>
          <a:graphicData uri="http://schemas.openxmlformats.org/drawingml/2006/table">
            <a:tbl>
              <a:tblPr/>
              <a:tblGrid>
                <a:gridCol w="2971800"/>
                <a:gridCol w="914400"/>
                <a:gridCol w="838440"/>
                <a:gridCol w="990360"/>
                <a:gridCol w="838440"/>
                <a:gridCol w="685800"/>
                <a:gridCol w="838080"/>
                <a:gridCol w="76212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серпень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січень-серпень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-та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росту до фа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я-серпеня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 ГУЖКГ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01.09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354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07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02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0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2 7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4 91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5 0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3 38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62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10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65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87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35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8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6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5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6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0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8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. допомога комунальним п-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0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6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3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3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0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17 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Кіровограджитлосервіс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КПЄЗО “Міськсвітло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 №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 63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 1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 0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63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37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3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8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1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3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9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січні-серпні 2013 року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457200" y="1600200"/>
          <a:ext cx="4030560" cy="45259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1143000"/>
          <a:ext cx="8839440" cy="5410080"/>
        </p:xfrm>
        <a:graphic>
          <a:graphicData uri="http://schemas.openxmlformats.org/drawingml/2006/table">
            <a:tbl>
              <a:tblPr/>
              <a:tblGrid>
                <a:gridCol w="2210040"/>
                <a:gridCol w="914400"/>
                <a:gridCol w="914400"/>
                <a:gridCol w="914400"/>
                <a:gridCol w="914400"/>
                <a:gridCol w="838080"/>
                <a:gridCol w="609480"/>
                <a:gridCol w="671760"/>
                <a:gridCol w="852480"/>
              </a:tblGrid>
              <a:tr h="448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серпень 2012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 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серп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фінансуван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січень –серпень  2012 ро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лишки коштів на рахунку ГУЖКГ та одержувач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т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712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7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84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0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2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0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54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31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92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611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4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64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8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7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6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3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я з ДБ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7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18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1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7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7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5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7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9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11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нансування та залишки по  видатках загального фонду по Головному управлінню житлово-комунального господарства у 2013 ро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2"/>
          <p:cNvGraphicFramePr/>
          <p:nvPr/>
        </p:nvGraphicFramePr>
        <p:xfrm>
          <a:off x="154080" y="844560"/>
          <a:ext cx="8621640" cy="57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844560"/>
                    <a:ext cx="862164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2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січень-серпень 2013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228600" y="533520"/>
          <a:ext cx="8763120" cy="6083280"/>
        </p:xfrm>
        <a:graphic>
          <a:graphicData uri="http://schemas.openxmlformats.org/drawingml/2006/table">
            <a:tbl>
              <a:tblPr/>
              <a:tblGrid>
                <a:gridCol w="2971800"/>
                <a:gridCol w="838080"/>
                <a:gridCol w="838440"/>
                <a:gridCol w="838080"/>
                <a:gridCol w="838080"/>
                <a:gridCol w="838440"/>
                <a:gridCol w="761760"/>
                <a:gridCol w="838440"/>
              </a:tblGrid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серпень 2012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            2013 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серпень 2013р. (станом на 30.08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-серпня 2012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3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4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з власників трансп. засоб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4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2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6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2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в частині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18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4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72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4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45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6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54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2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73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0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18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1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42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6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забрудн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сні надходження бюдж. уста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88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06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37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5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86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ого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48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0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62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54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9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9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12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Object 2"/>
          <p:cNvGraphicFramePr/>
          <p:nvPr/>
        </p:nvGraphicFramePr>
        <p:xfrm>
          <a:off x="0" y="0"/>
          <a:ext cx="9144000" cy="708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6781680" y="304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4</a:t>
            </a:r>
            <a:br>
              <a:rPr sz="14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видатками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 січні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серпні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2013 ро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52280" y="685800"/>
          <a:ext cx="8839440" cy="6022800"/>
        </p:xfrm>
        <a:graphic>
          <a:graphicData uri="http://schemas.openxmlformats.org/drawingml/2006/table">
            <a:tbl>
              <a:tblPr/>
              <a:tblGrid>
                <a:gridCol w="2702160"/>
                <a:gridCol w="1023840"/>
                <a:gridCol w="931680"/>
                <a:gridCol w="932040"/>
                <a:gridCol w="931680"/>
                <a:gridCol w="744840"/>
                <a:gridCol w="744480"/>
                <a:gridCol w="82872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2013 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 – серпень 2013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фінансув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фінансування до січня-серп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лишки на рахунках головних розпорядник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но викон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 1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4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99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36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63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і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2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 57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2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0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20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33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7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 гос-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15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 73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 20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37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3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00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23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2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4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пітальні вклад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7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26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7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6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00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,8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та комп'ютеризація виконавчих орган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2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66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1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1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,1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іншим бюдже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8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 з міського б-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03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36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7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8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9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сні надходження бюдж. уст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6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37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88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88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95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74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19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5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43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Графік 15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інансування та залишки по  бюджету розвитку міського бюджету у 2013 роц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Object 2"/>
          <p:cNvGraphicFramePr/>
          <p:nvPr/>
        </p:nvGraphicFramePr>
        <p:xfrm>
          <a:off x="154080" y="847800"/>
          <a:ext cx="8823240" cy="58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847800"/>
                    <a:ext cx="882324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79280" y="22096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>
                <a:solidFill>
                  <a:srgbClr val="ffffff"/>
                </a:solidFill>
                <a:latin typeface="Tahoma"/>
              </a:rPr>
              <a:t>Дякуємо за уваг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 січень-серпень 2013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52280" y="609480"/>
          <a:ext cx="8839440" cy="6012000"/>
        </p:xfrm>
        <a:graphic>
          <a:graphicData uri="http://schemas.openxmlformats.org/drawingml/2006/table">
            <a:tbl>
              <a:tblPr/>
              <a:tblGrid>
                <a:gridCol w="3130560"/>
                <a:gridCol w="1013040"/>
                <a:gridCol w="957240"/>
                <a:gridCol w="955440"/>
                <a:gridCol w="1044720"/>
                <a:gridCol w="868320"/>
                <a:gridCol w="870120"/>
              </a:tblGrid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            2013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ічень-серпень 2013р.(станом на 30.08.1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січня-серп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2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4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 95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 2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 73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65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83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1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7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3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8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35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32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79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8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а за розміщ тимчас. вільних кош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єстраційний збі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4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 2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89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6 90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 98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 48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68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92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 76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2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 510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1 67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 92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 75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1 05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 61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 94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 67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рпень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2013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9280" y="981000"/>
          <a:ext cx="8735760" cy="5646960"/>
        </p:xfrm>
        <a:graphic>
          <a:graphicData uri="http://schemas.openxmlformats.org/drawingml/2006/table">
            <a:tbl>
              <a:tblPr/>
              <a:tblGrid>
                <a:gridCol w="2245680"/>
                <a:gridCol w="1095840"/>
                <a:gridCol w="1095840"/>
                <a:gridCol w="1095480"/>
                <a:gridCol w="842760"/>
                <a:gridCol w="927360"/>
                <a:gridCol w="674280"/>
                <a:gridCol w="758520"/>
              </a:tblGrid>
              <a:tr h="611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менування показ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-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лану січня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пня 2013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 січня-серп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-серп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іськи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 22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 8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 09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 7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Кіров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0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7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5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45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Ленінського р-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4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.Нов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0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8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79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 05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 61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 9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 67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ього доход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0 19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 12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 1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 98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серпень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2"/>
          <p:cNvGraphicFramePr/>
          <p:nvPr/>
        </p:nvGraphicFramePr>
        <p:xfrm>
          <a:off x="252360" y="1306440"/>
          <a:ext cx="87393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306440"/>
                    <a:ext cx="87393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січень-серпень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171360" y="1235160"/>
          <a:ext cx="8834400" cy="54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235160"/>
                    <a:ext cx="883440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січень-серпень 2013р. у порівнянні з відповідним періодом 20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Object 2"/>
          <p:cNvGraphicFramePr/>
          <p:nvPr/>
        </p:nvGraphicFramePr>
        <p:xfrm>
          <a:off x="152280" y="762120"/>
          <a:ext cx="8991720" cy="55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991720" cy="55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-серпень 2013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04920" y="990720"/>
          <a:ext cx="8686800" cy="5714640"/>
        </p:xfrm>
        <a:graphic>
          <a:graphicData uri="http://schemas.openxmlformats.org/drawingml/2006/table">
            <a:tbl>
              <a:tblPr/>
              <a:tblGrid>
                <a:gridCol w="2695320"/>
                <a:gridCol w="973440"/>
                <a:gridCol w="1212840"/>
                <a:gridCol w="1211040"/>
                <a:gridCol w="865080"/>
                <a:gridCol w="738360"/>
                <a:gridCol w="990720"/>
              </a:tblGrid>
              <a:tr h="290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н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-серпень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ня-серпня 2012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2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638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49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 96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 10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 5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 97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1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99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5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2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4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52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37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4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2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5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3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9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8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6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2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2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атків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 1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 1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 39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Б на соцзахист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 82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 60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 30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0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5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6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адмін.по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івняння структури фактичних видатків загального фонду за січень-серпень 2013 р. з відповідним періодом 2012 р.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297000" y="914400"/>
          <a:ext cx="8051760" cy="34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914400"/>
                    <a:ext cx="805176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3"/>
          <p:cNvGraphicFramePr/>
          <p:nvPr/>
        </p:nvGraphicFramePr>
        <p:xfrm>
          <a:off x="3040200" y="2897280"/>
          <a:ext cx="7007040" cy="3960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0200" y="2897280"/>
                    <a:ext cx="70070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28600" y="1219320"/>
          <a:ext cx="8686800" cy="541008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48420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серпень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 – серпень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січня – серпня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 71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 26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54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7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 06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31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 98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 59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6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5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 04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3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без станцій швидкої меди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9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9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1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970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19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97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50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6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vec_N</cp:lastModifiedBy>
  <dcterms:modified xsi:type="dcterms:W3CDTF">2013-09-06T11:27:54Z</dcterms:modified>
  <cp:revision>7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