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F96-75B7-4D3F-95AD-62BE484B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C895-CC3B-4863-95DB-EA76E10C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6C7A-8444-40C9-9CB6-CF8C0EB0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B82-5571-4E59-B262-7D229417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A48-8ADA-4D57-B767-F0614F21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05F-8CE6-44FB-B4DD-1AF87D25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C4D-5174-492E-B226-66BEB5EF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95C-2AF3-438B-8CE1-F51D5285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6FD-D1D1-4479-A4C9-D1C87966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4A4-12ED-47F6-B3C3-1E294A08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37C-F028-4D5A-89F6-A94F22FA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F94-B5B0-4542-8392-5B2F8B3C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2253-D325-4E09-A0D9-4CDAA5A7D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Таблиця №1</a:t>
            </a:r>
            <a:br>
              <a:rPr sz="18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фонду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іського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оходами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за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ічень-лютий 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20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609480"/>
          <a:ext cx="8839440" cy="6115320"/>
        </p:xfrm>
        <a:graphic>
          <a:graphicData uri="http://schemas.openxmlformats.org/drawingml/2006/table">
            <a:tbl>
              <a:tblPr/>
              <a:tblGrid>
                <a:gridCol w="3130560"/>
                <a:gridCol w="1013040"/>
                <a:gridCol w="957240"/>
                <a:gridCol w="955440"/>
                <a:gridCol w="1044720"/>
                <a:gridCol w="868320"/>
                <a:gridCol w="870120"/>
              </a:tblGrid>
              <a:tr h="2617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            2013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-лютий 2013р.(станом на 28.02.1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ту до факту січня-лю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виконан-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Д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 6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075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25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аток на прибуток та частина прибутку комунальних підп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єм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та за користування надр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та за землю, в т.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1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26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42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емельний пода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75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7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8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ендна п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35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99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13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ісцеві податки і зб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а за розміщ тимчас. вільних кошт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інштрафи та інші санк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єстраційний збі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.від орендної плати за ЦМ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ржавне ми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 надходж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власні та закріплені дохо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 2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56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тація вирівню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 48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08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12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6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даткові до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венції з Д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 66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87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03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 83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доходів 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 66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33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 09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 23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аблиця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рівняння видатків на заробітну плату та енергоносії по міському бюдж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219320"/>
          <a:ext cx="8686800" cy="5486040"/>
        </p:xfrm>
        <a:graphic>
          <a:graphicData uri="http://schemas.openxmlformats.org/drawingml/2006/table">
            <a:tbl>
              <a:tblPr/>
              <a:tblGrid>
                <a:gridCol w="3886200"/>
                <a:gridCol w="1143000"/>
                <a:gridCol w="1066680"/>
                <a:gridCol w="1219320"/>
                <a:gridCol w="1371600"/>
              </a:tblGrid>
              <a:tr h="55260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лютий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 – лютий 2013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січня – лютого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хи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и рос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яг фінансування зарплати та енергоносії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29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07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8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обітна плата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 40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84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3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ві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60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64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4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хорона здоров"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21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85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4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оносії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88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22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65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уги теплопоста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6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66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блиця №1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 та спеціального фондів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 видатках на житлово-комунальне сподарство за січень-лютий 2013 року по головному розпоряднику – Головному управлінню Ж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280" y="914400"/>
          <a:ext cx="8839440" cy="5778360"/>
        </p:xfrm>
        <a:graphic>
          <a:graphicData uri="http://schemas.openxmlformats.org/drawingml/2006/table">
            <a:tbl>
              <a:tblPr/>
              <a:tblGrid>
                <a:gridCol w="2992680"/>
                <a:gridCol w="973080"/>
                <a:gridCol w="990360"/>
                <a:gridCol w="908280"/>
                <a:gridCol w="662040"/>
                <a:gridCol w="826920"/>
                <a:gridCol w="660600"/>
                <a:gridCol w="825480"/>
              </a:tblGrid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лютий 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 рік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 за січень-лютий 2013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до річного плану (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%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факту 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ень-лютий 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ишки коштів на рахунках ГУЖКГ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01.03.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  Ж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46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30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2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Загальний фонд, у т.ч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 88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4 45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 8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9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3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9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 міста, 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2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51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9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доріг та вивезення см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0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6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зелених насадж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кладови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г. мереж зовнішнього освіт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8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ня кредиторської заборг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7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інансова допомога комунальним підприємствам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8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ра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ПУ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Кіровограджитлосервіс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рест зеленого господарства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еплоенергетик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пеціальний фонд </a:t>
                      </a:r>
                      <a:r>
                        <a:rPr b="1" i="1" lang="uk-UA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(б-т розвитку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06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 85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38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0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ремонт житлового фон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44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8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інансування на утримання та ремонт доріг у січні-лютому 2013 року  по Головному управлінню житлово-комунального господарства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4030560" cy="4525920"/>
        </p:xfrm>
        <a:graphic>
          <a:graphicData uri="http://schemas.openxmlformats.org/drawingml/2006/table">
            <a:tbl>
              <a:tblPr/>
              <a:tblGrid>
                <a:gridCol w="403056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04920" y="1143000"/>
          <a:ext cx="8686800" cy="5562360"/>
        </p:xfrm>
        <a:graphic>
          <a:graphicData uri="http://schemas.openxmlformats.org/drawingml/2006/table">
            <a:tbl>
              <a:tblPr/>
              <a:tblGrid>
                <a:gridCol w="2209680"/>
                <a:gridCol w="685800"/>
                <a:gridCol w="914400"/>
                <a:gridCol w="838080"/>
                <a:gridCol w="914400"/>
                <a:gridCol w="720720"/>
                <a:gridCol w="682920"/>
                <a:gridCol w="882360"/>
                <a:gridCol w="838440"/>
              </a:tblGrid>
              <a:tr h="332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лютий 2012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на  2013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-лютий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фінансування до річного пла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до факту за січень –лютий 2012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лишки коштів на рахунку ГУЖКГ та одержувач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на січень-лю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но використ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32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5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5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1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8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льний фон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45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3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ьний фонд,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37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248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89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86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жн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0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я з ДБ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16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4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4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5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8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спожи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8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8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6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3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6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6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4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 них за рахунок залишку коштів субвенції на 01.01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9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9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9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5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ХОДИ спецфонду- Таблиця №13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доходами  за січень-лютий 2013р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без власних надходжень бюджетних уста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28600" y="533520"/>
          <a:ext cx="8763120" cy="6045120"/>
        </p:xfrm>
        <a:graphic>
          <a:graphicData uri="http://schemas.openxmlformats.org/drawingml/2006/table">
            <a:tbl>
              <a:tblPr/>
              <a:tblGrid>
                <a:gridCol w="2971800"/>
                <a:gridCol w="838080"/>
                <a:gridCol w="838440"/>
                <a:gridCol w="838080"/>
                <a:gridCol w="838080"/>
                <a:gridCol w="838440"/>
                <a:gridCol w="761760"/>
                <a:gridCol w="838440"/>
              </a:tblGrid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-лютий 2012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            2013 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-лютий 2013р. (станом на 28.02.1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росту до факту січня-лютого 2012 рок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0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аток з власників трансп. засоб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ершу реєстрацію транс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2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в частині провадження торговельної діяльності нафтопродуктами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розвит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5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8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89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1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Єди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5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7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5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6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ення від відчуження май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шти від продажу земельних діля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ти від продажу прав на земл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шти від продажу земельних ділянок з розстроченням платеж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ти від пайової участі замов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ток на нерухоме май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нд охорони навколишнього природного середовищ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ошові стягнення за шк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кологіч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забруднення та інші надходж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ільов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вен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2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6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6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доходів спеці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7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 27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24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6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36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1 р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76320" y="152280"/>
          <a:ext cx="8851680" cy="673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52280"/>
                    <a:ext cx="8851680" cy="673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6781680" y="304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к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52560" y="857160"/>
          <a:ext cx="9113760" cy="567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857160"/>
                    <a:ext cx="911376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видаткам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 січні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лютом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3 рок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ез власних надходжень бюджетних устан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280" y="762120"/>
          <a:ext cx="8839440" cy="6075360"/>
        </p:xfrm>
        <a:graphic>
          <a:graphicData uri="http://schemas.openxmlformats.org/drawingml/2006/table">
            <a:tbl>
              <a:tblPr/>
              <a:tblGrid>
                <a:gridCol w="2637000"/>
                <a:gridCol w="852480"/>
                <a:gridCol w="930240"/>
                <a:gridCol w="930240"/>
                <a:gridCol w="1008000"/>
                <a:gridCol w="955800"/>
                <a:gridCol w="776160"/>
                <a:gridCol w="7495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 січень-лю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 плану на січень-лютого 2013 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ту до факту січня-лю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 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на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      на              січень-лю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-с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юджет розвитку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 н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9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6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40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0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 99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житлово-комуналь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12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47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9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4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2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хорона здоров'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01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28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38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69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ві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09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0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 07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4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монт дорі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30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ультура і фізична 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9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ціальний зах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9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удівництво,реконструкці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54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6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5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вестиційні проекти (співфін -ня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4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54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4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4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нески у статутні капіта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3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 видатки (об»єкти) та комп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'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ю-теризація виконавчих орган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53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0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 07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зробка та коригування містобудівної докумен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рожн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ільові фон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та обл. бюдже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53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9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91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ом видатк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8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 99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39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67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 72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7 р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№2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иконання загального фонду зведеного бюджету м.Кіровограда за доходами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 січен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ютий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2013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981000"/>
          <a:ext cx="8736120" cy="5724360"/>
        </p:xfrm>
        <a:graphic>
          <a:graphicData uri="http://schemas.openxmlformats.org/drawingml/2006/table">
            <a:tbl>
              <a:tblPr/>
              <a:tblGrid>
                <a:gridCol w="2246400"/>
                <a:gridCol w="1095480"/>
                <a:gridCol w="1095120"/>
                <a:gridCol w="1022400"/>
                <a:gridCol w="838440"/>
                <a:gridCol w="1004760"/>
                <a:gridCol w="674640"/>
                <a:gridCol w="758880"/>
              </a:tblGrid>
              <a:tr h="572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менування показ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-ня до р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лану січня - лю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акту січня - лю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січень - лю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іськи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8 58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75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67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 07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у числ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 субвен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88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2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3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28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Кіровського р-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 8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2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4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23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у числ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 субвен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 49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7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36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 71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Ленінського р-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 59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8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72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07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у числ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 субвен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28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1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34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 82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с.Нов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0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4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6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ього дохо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3 29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18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 81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 36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3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власних та закріплених доходів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січень-лютий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2"/>
          <p:cNvGraphicFramePr/>
          <p:nvPr/>
        </p:nvGraphicFramePr>
        <p:xfrm>
          <a:off x="139680" y="1082520"/>
          <a:ext cx="9029880" cy="554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082520"/>
                    <a:ext cx="9029880" cy="55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4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одатку на доходи фізичних осіб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січень-лютий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2"/>
          <p:cNvGraphicFramePr/>
          <p:nvPr/>
        </p:nvGraphicFramePr>
        <p:xfrm>
          <a:off x="417600" y="990720"/>
          <a:ext cx="865008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990720"/>
                    <a:ext cx="865008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5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лати за землю до міського бюджету за січень-лютий 2013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2"/>
          <p:cNvGraphicFramePr/>
          <p:nvPr/>
        </p:nvGraphicFramePr>
        <p:xfrm>
          <a:off x="154080" y="1181160"/>
          <a:ext cx="879768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1181160"/>
                    <a:ext cx="879768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6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лати за землю до міського бюджету в розрізі земельного податку 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орендної пла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без с.Нового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січень-лютий 2013р. у порівнянні з відповідним періодом 20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2"/>
          <p:cNvGraphicFramePr/>
          <p:nvPr/>
        </p:nvGraphicFramePr>
        <p:xfrm>
          <a:off x="154080" y="1181160"/>
          <a:ext cx="8518320" cy="546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1181160"/>
                    <a:ext cx="8518320" cy="54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и - Таблиця №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нд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ам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січень-лютий 2013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1052640"/>
          <a:ext cx="8839440" cy="5638680"/>
        </p:xfrm>
        <a:graphic>
          <a:graphicData uri="http://schemas.openxmlformats.org/drawingml/2006/table">
            <a:tbl>
              <a:tblPr/>
              <a:tblGrid>
                <a:gridCol w="2589480"/>
                <a:gridCol w="1056960"/>
                <a:gridCol w="1320840"/>
                <a:gridCol w="1231920"/>
                <a:gridCol w="881280"/>
                <a:gridCol w="879480"/>
                <a:gridCol w="879480"/>
              </a:tblGrid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н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1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-лютий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ак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ня-лютого 2012 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інансова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ісцев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вряд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25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3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ві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 27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 55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30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доро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'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 45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31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 26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захис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18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6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стец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52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4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3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із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22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5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тло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унальн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сп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45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87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є господарство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5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атків            міського бюдж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 96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19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 84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 з ДБ на соцзах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 80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40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2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.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 обл.Б на утрим. СШМ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2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5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5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тації районам та с.Ново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8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Діаграма №8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р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няння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 видатків загального фонду міського бюджету по галузям за січень-лютий               2013 року з відповідним періодом 2012 ро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152280" y="914400"/>
          <a:ext cx="7264440" cy="33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726444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3"/>
          <p:cNvGraphicFramePr/>
          <p:nvPr/>
        </p:nvGraphicFramePr>
        <p:xfrm>
          <a:off x="3276720" y="3352680"/>
          <a:ext cx="5803920" cy="3695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352680"/>
                    <a:ext cx="580392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іаграма №9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рівняння структури фактичних видатків загального фонду за січень-лютий 2013 р. з відповідним періодом 2012 р. в розрізі напрямків викорис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304920" y="914400"/>
          <a:ext cx="7873920" cy="36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787392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"/>
          <p:cNvGraphicFramePr/>
          <p:nvPr/>
        </p:nvGraphicFramePr>
        <p:xfrm>
          <a:off x="3048120" y="2895480"/>
          <a:ext cx="6908760" cy="3962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2895480"/>
                    <a:ext cx="69087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uzko_T</cp:lastModifiedBy>
  <dcterms:modified xsi:type="dcterms:W3CDTF">2013-03-04T09:50:48Z</dcterms:modified>
  <cp:revision>5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