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CF59-C250-4661-BEDA-FC98DF183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9E39-D39A-4CD8-BC95-08F9706D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3087-A821-4EA6-8952-876E520D9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84D8-9F4F-4EB2-890E-7A16DFAB6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F5A4-3123-4E3B-A83B-E9C3D19A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E0D6-99B6-45A0-A1C3-A0A0FF6F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EF12-82DB-4AE6-B053-D56DBCB9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FC71-4EE3-419D-AFF9-2B9B197D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624F-51A2-45D1-822B-0B81E4C2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BAF0-E0B8-458E-A9D5-AED45708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FB3E-32A1-48C7-ACB5-55ADF477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E24C-1153-4F5A-89B5-4B2ACA41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E6A7-FDF5-4CF1-80E9-C002EA7F85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Таблиця №1</a:t>
            </a:r>
            <a:br>
              <a:rPr sz="18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иконання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загального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фонду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іського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юджету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іровограда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оходами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 за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ічень-лютий 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20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р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609480"/>
          <a:ext cx="8839440" cy="6115320"/>
        </p:xfrm>
        <a:graphic>
          <a:graphicData uri="http://schemas.openxmlformats.org/drawingml/2006/table">
            <a:tbl>
              <a:tblPr/>
              <a:tblGrid>
                <a:gridCol w="3130560"/>
                <a:gridCol w="1013040"/>
                <a:gridCol w="957240"/>
                <a:gridCol w="955440"/>
                <a:gridCol w="1044720"/>
                <a:gridCol w="868320"/>
                <a:gridCol w="870120"/>
              </a:tblGrid>
              <a:tr h="2617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на             2013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ічень-лютий 2013р.(станом на 28.02.1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сту до факту січня-лют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2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ідхиле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виконан-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ДФ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6 61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075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25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аток на прибуток та частина прибутку комунальних підпр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єм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та за користування надр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та за землю, в т.ч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 11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26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42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емельний подат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75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7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8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рендна пла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35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99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13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ісцеві податки і збор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53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та за розміщ тимчас. вільних кошт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інштрафи та інші санк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єстраційний збір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дходж.від орендної плати за ЦМ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78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ержавне мит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нші надходженн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ього власні та закріплені дохо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5 29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00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56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тація вирівнюва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 48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08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12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6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даткові дота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0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бвенції з ДБ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 66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87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 03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 83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ього доходів загального фон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0 66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 33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 09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 23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Таблиця №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400"/>
            </a:b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орівняння видатків на заробітну плату та енергоносії по міському бюдже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28600" y="1219320"/>
          <a:ext cx="8686800" cy="5486040"/>
        </p:xfrm>
        <a:graphic>
          <a:graphicData uri="http://schemas.openxmlformats.org/drawingml/2006/table">
            <a:tbl>
              <a:tblPr/>
              <a:tblGrid>
                <a:gridCol w="3886200"/>
                <a:gridCol w="1143000"/>
                <a:gridCol w="1066680"/>
                <a:gridCol w="1219320"/>
                <a:gridCol w="1371600"/>
              </a:tblGrid>
              <a:tr h="55260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 за січень-лютий 2012 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ічень – лютий 2013 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січня – лютого 2012 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ідхил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и рос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яг фінансування зарплати та енергоносії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29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 07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78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робітна плата, у т.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 40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84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43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ві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60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64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04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хорона здоров"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21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85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4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нергоносії, у т.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88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22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65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луги теплопостач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67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66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аблиця №1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иконання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загального та спеціального фондів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міськог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юджету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іровограда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о видатках на житлово-комунальне сподарство за січень-лютий 2013 року по головному розпоряднику – Головному управлінню ЖК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52280" y="914400"/>
          <a:ext cx="8839440" cy="5778360"/>
        </p:xfrm>
        <a:graphic>
          <a:graphicData uri="http://schemas.openxmlformats.org/drawingml/2006/table">
            <a:tbl>
              <a:tblPr/>
              <a:tblGrid>
                <a:gridCol w="2992680"/>
                <a:gridCol w="973080"/>
                <a:gridCol w="990360"/>
                <a:gridCol w="908280"/>
                <a:gridCol w="662040"/>
                <a:gridCol w="826920"/>
                <a:gridCol w="660600"/>
                <a:gridCol w="825480"/>
              </a:tblGrid>
              <a:tr h="505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 за січень-лютий 2012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3 рік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фінансовано за січень-лютий 2013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інансування до річного плану (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%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факту з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ічень-лютий 2012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лишки коштів на рахунках ГУЖКГ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01.03.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хиле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  Ж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946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 30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25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0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Загальний фонд, у т.ч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 88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4 45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3 87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99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3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49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лагоустрій міста, 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42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51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49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имання доріг та вивезення смітт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0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97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6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имання зелених насадж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58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имання кладови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луг. мереж зовнішнього освітл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48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1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ня кредиторської заборгова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7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інансова допомога комунальним підприємствам, 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94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8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раз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Д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9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ПУ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 “Кіровограджитлосервіс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 “Трест зеленого господарства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 “Теплоенергетик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Спеціальний фонд </a:t>
                      </a:r>
                      <a:r>
                        <a:rPr b="1" i="1" lang="uk-UA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(б-т розвитку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 06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1 85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 38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31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3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0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премонт житлового фон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44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8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лагоустрі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0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4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я 1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br>
              <a:rPr sz="1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інансування на утримання та ремонт доріг у січні-лютому 2013 року  по Головному управлінню житлово-комунального господарства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600200"/>
          <a:ext cx="4030560" cy="4525920"/>
        </p:xfrm>
        <a:graphic>
          <a:graphicData uri="http://schemas.openxmlformats.org/drawingml/2006/table">
            <a:tbl>
              <a:tblPr/>
              <a:tblGrid>
                <a:gridCol w="4030560"/>
              </a:tblGrid>
              <a:tr h="4525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304920" y="1143000"/>
          <a:ext cx="8686800" cy="5562360"/>
        </p:xfrm>
        <a:graphic>
          <a:graphicData uri="http://schemas.openxmlformats.org/drawingml/2006/table">
            <a:tbl>
              <a:tblPr/>
              <a:tblGrid>
                <a:gridCol w="2209680"/>
                <a:gridCol w="685800"/>
                <a:gridCol w="914400"/>
                <a:gridCol w="838080"/>
                <a:gridCol w="914400"/>
                <a:gridCol w="720720"/>
                <a:gridCol w="682920"/>
                <a:gridCol w="882360"/>
                <a:gridCol w="838440"/>
              </a:tblGrid>
              <a:tr h="332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 за січень-лютий 2012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 на  2013 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ічень-лютий 2013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фінансування до річного пла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до факту за січень –лютий 2012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лишки коштів на рахунку ГУЖКГ та одержувач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 на січень-лю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інанс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но використ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ОМ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32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05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35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1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8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альний фон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7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45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3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6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7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іальний фонд, </a:t>
                      </a: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т.ч.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376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248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7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689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586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ожні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0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 розвит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0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венція з ДБ, у т.ч.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16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84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84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5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58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атки спожи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2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8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8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6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атки розвит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23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6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6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4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1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 них за рахунок залишку коштів субвенції на 01.01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9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9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9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5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43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ДОХОДИ спецфонду- Таблиця №13</a:t>
            </a: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Виконання спеціального фонду міського бюджету м.Кіровограда   за доходами  за січень-лютий 2013р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без власних надходжень бюджетних устан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28600" y="533520"/>
          <a:ext cx="8763120" cy="6045120"/>
        </p:xfrm>
        <a:graphic>
          <a:graphicData uri="http://schemas.openxmlformats.org/drawingml/2006/table">
            <a:tbl>
              <a:tblPr/>
              <a:tblGrid>
                <a:gridCol w="2971800"/>
                <a:gridCol w="838080"/>
                <a:gridCol w="838440"/>
                <a:gridCol w="838080"/>
                <a:gridCol w="838080"/>
                <a:gridCol w="838440"/>
                <a:gridCol w="761760"/>
                <a:gridCol w="838440"/>
              </a:tblGrid>
              <a:tr h="215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 за січень-лютий 2012р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на             2013 р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ічень-лютий 2013р. (станом на 28.02.1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росту до факту січня-лютого 2012 рок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ідхиленн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рожні фон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0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аток з власників трансп. засоб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бір за першу реєстрацію трансп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2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бір в частині провадження торговельної діяльності нафтопродуктами                   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юджет розвит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45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2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8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89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51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9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Єдиний подато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5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4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67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53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86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дходження від відчуження майн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шти від продажу земельних ділян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шти від продажу прав на земл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шти від продажу земельних ділянок з розстроченням платеж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шти від пайової участі замовник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аток на нерухоме май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онд охорони навколишнього природного середовищ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рошові стягнення за шко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кологічний подато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бір за забруднення та інші надходже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ільові фон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8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бвен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62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6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6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ього доходів спеціального фон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07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 27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24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61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36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,1 р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76320" y="152280"/>
          <a:ext cx="8851680" cy="673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52280"/>
                    <a:ext cx="8851680" cy="673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6781680" y="3049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рафік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52560" y="857160"/>
          <a:ext cx="9113760" cy="5675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" y="857160"/>
                    <a:ext cx="9113760" cy="567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я 1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6</a:t>
            </a: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Виконання спеціального фонду міського бюджету м.Кіровограда   за видаткам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 січні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лютом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13 рок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без власних надходжень бюджетних устан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280" y="762120"/>
          <a:ext cx="8839440" cy="6075360"/>
        </p:xfrm>
        <a:graphic>
          <a:graphicData uri="http://schemas.openxmlformats.org/drawingml/2006/table">
            <a:tbl>
              <a:tblPr/>
              <a:tblGrid>
                <a:gridCol w="2637000"/>
                <a:gridCol w="852480"/>
                <a:gridCol w="930240"/>
                <a:gridCol w="930240"/>
                <a:gridCol w="1008000"/>
                <a:gridCol w="955800"/>
                <a:gridCol w="776160"/>
                <a:gridCol w="749520"/>
              </a:tblGrid>
              <a:tr h="4590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 за  січень-лю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2 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2 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 плану на січень-лютого 2013 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сту до факту січня-лю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3 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 на 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       на              січень-лю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фінан-с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ідхил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Бюджет розвитку,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 ни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59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 65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40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40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 99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2 раз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житлово-комуналь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12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47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69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44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22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хорона здоров'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01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28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38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8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69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сві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09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60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3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1 07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,4 раз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емонт дорі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30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ультура і фізична 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9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оціальний захи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9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будівництво,реконструкці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54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8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16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,5 раз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нвестиційні проекти (співфін -ня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54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 54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 40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14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нески у статутні капіта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131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нші  видатки (об»єкти) та комп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'</a:t>
                      </a: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ю-теризація виконавчих орган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1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53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40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1 07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озробка та коригування містобудівної документа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6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рожн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0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3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Цільові фонд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0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6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5 раз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убвенції з ДБ та обл. бюджет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53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93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91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зом видатк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68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 99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39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67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 72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7 р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Таблиця №2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Виконання загального фонду зведеного бюджету м.Кіровограда за доходами 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за січень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ютий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2013 ро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79280" y="981000"/>
          <a:ext cx="8736120" cy="5724360"/>
        </p:xfrm>
        <a:graphic>
          <a:graphicData uri="http://schemas.openxmlformats.org/drawingml/2006/table">
            <a:tbl>
              <a:tblPr/>
              <a:tblGrid>
                <a:gridCol w="2246400"/>
                <a:gridCol w="1095480"/>
                <a:gridCol w="1095120"/>
                <a:gridCol w="1022400"/>
                <a:gridCol w="838440"/>
                <a:gridCol w="1004760"/>
                <a:gridCol w="674640"/>
                <a:gridCol w="758880"/>
              </a:tblGrid>
              <a:tr h="572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менування показник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1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і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виконан-ня до річного план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плану січня - лют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 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у до факту січня - лют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 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ік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на січень - лют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хиле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іський бюдж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8 58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 75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67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 07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у числ</a:t>
                      </a: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 субвенц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88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62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3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28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раз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 Кіровського р-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 80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28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04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 23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у числ</a:t>
                      </a: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 субвенц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 49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07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36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 71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 Ленінського р-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 59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80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72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 07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у числ</a:t>
                      </a: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 субвенц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 28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17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34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 82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 с.Нов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30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4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6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ього дохо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3 29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 18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 81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 36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№3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актичні надходження власних та закріплених доходів до міського бюджету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за 2012р. та січень-лютий 2013р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2"/>
          <p:cNvGraphicFramePr/>
          <p:nvPr/>
        </p:nvGraphicFramePr>
        <p:xfrm>
          <a:off x="139680" y="1082520"/>
          <a:ext cx="9029880" cy="554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1082520"/>
                    <a:ext cx="9029880" cy="55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№4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актичні надходження податку на доходи фізичних осіб до міського бюджету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за 2012р. та січень-лютий 2013р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2"/>
          <p:cNvGraphicFramePr/>
          <p:nvPr/>
        </p:nvGraphicFramePr>
        <p:xfrm>
          <a:off x="417600" y="990720"/>
          <a:ext cx="8650080" cy="549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990720"/>
                    <a:ext cx="8650080" cy="54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№5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актичні надходження плати за землю до міського бюджету за січень-лютий 2013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2"/>
          <p:cNvGraphicFramePr/>
          <p:nvPr/>
        </p:nvGraphicFramePr>
        <p:xfrm>
          <a:off x="154080" y="1181160"/>
          <a:ext cx="8797680" cy="552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080" y="1181160"/>
                    <a:ext cx="879768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№6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актичні надходження плати за землю до міського бюджету в розрізі земельного податку т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орендної плат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(без с.Нового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за січень-лютий 2013р. у порівнянні з відповідним періодом 20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р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2"/>
          <p:cNvGraphicFramePr/>
          <p:nvPr/>
        </p:nvGraphicFramePr>
        <p:xfrm>
          <a:off x="154080" y="1181160"/>
          <a:ext cx="8518320" cy="546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080" y="1181160"/>
                    <a:ext cx="8518320" cy="54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датки - Таблиця №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конання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гального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фонду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міськог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юджету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іровогра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даткам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 січень-лютий 2013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280" y="1052640"/>
          <a:ext cx="8839440" cy="5638680"/>
        </p:xfrm>
        <a:graphic>
          <a:graphicData uri="http://schemas.openxmlformats.org/drawingml/2006/table">
            <a:tbl>
              <a:tblPr/>
              <a:tblGrid>
                <a:gridCol w="2589480"/>
                <a:gridCol w="1056960"/>
                <a:gridCol w="1320840"/>
                <a:gridCol w="1231920"/>
                <a:gridCol w="881280"/>
                <a:gridCol w="879480"/>
                <a:gridCol w="879480"/>
              </a:tblGrid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 н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01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і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ічень-лютий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1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р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чного план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у до факт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ічня-лютого 2012 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інансова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рган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ісцевог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мовряду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25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73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2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сві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 27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 55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30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хоро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доров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'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 45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31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 26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цзахист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безпеч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18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6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1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льтур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истец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52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4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63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ізкультур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22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5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итлов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мунальне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сп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45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53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87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рожнє господарство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ран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2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нш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5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ьог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атків            міського бюдж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0 96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 19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 84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венції з ДБ на соцзахи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3 80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 40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 23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.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з обл.Б на утрим. СШМ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12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75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75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тації районам та с.Новом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8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56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Діаграма №8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р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няння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 видатків загального фонду міського бюджету по галузям за січень-лютий               2013 року з відповідним періодом 2012 ро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152280" y="914400"/>
          <a:ext cx="7264440" cy="332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14400"/>
                    <a:ext cx="7264440" cy="33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3"/>
          <p:cNvGraphicFramePr/>
          <p:nvPr/>
        </p:nvGraphicFramePr>
        <p:xfrm>
          <a:off x="3276720" y="3352680"/>
          <a:ext cx="5803920" cy="3695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352680"/>
                    <a:ext cx="580392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Діаграма №9</a:t>
            </a:r>
            <a:br>
              <a:rPr sz="20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рівняння структури фактичних видатків загального фонду за січень-лютий 2013 р. з відповідним періодом 2012 р. в розрізі напрямків використ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4"/>
          <p:cNvGraphicFramePr/>
          <p:nvPr/>
        </p:nvGraphicFramePr>
        <p:xfrm>
          <a:off x="304920" y="914400"/>
          <a:ext cx="7873920" cy="368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7873920" cy="36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3"/>
          <p:cNvGraphicFramePr/>
          <p:nvPr/>
        </p:nvGraphicFramePr>
        <p:xfrm>
          <a:off x="3048120" y="2895480"/>
          <a:ext cx="6908760" cy="3962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2895480"/>
                    <a:ext cx="690876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uzko_T</cp:lastModifiedBy>
  <dcterms:modified xsi:type="dcterms:W3CDTF">2013-03-04T09:50:48Z</dcterms:modified>
  <cp:revision>5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