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BF8-57C8-4492-9CEB-77C1C0A2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FA6-FEEC-410B-8DEA-4A2BD7E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C39-EB64-40A5-B004-0F63AD40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467-F096-44EE-B3E9-E515951E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594-5CC1-4EF9-8182-E884F6C9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606B-3512-43D1-8D0E-48C0D52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831-0CFE-4674-BFE3-A2F8B26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BBC8-6989-4193-B1A6-27CFD4E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115-9954-4DE8-8FF4-83E9F99D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2F49-8FDF-413E-AABD-A2F5985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B491-0668-4257-868B-90B05DB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412-2E52-4F31-8356-EF356A2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132-E74B-4D63-8A77-42FE635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A516-0332-4C50-B107-14068C2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448A-CE44-4397-B011-8960EF75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6E3-0C58-4E72-B48B-44B472E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69A-B55E-49BF-8F67-07A41392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B0D4-FF35-4914-9EC9-D4552CD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9810-FAF4-4817-B62A-2C95291B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F995-4502-44FD-8BB3-AD7909F4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5F04-8353-49A3-A6E7-92FA53D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8AC5-F18C-4612-B09E-0A87B54C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8AA-5447-42A1-96E0-BF4AA0B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C90C-2BEE-4D26-B089-6846CE4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9C34-97BF-40FF-81EA-B66DF68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5572-FFD1-4180-BE28-BCA4A25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298E-0AFB-4833-B1C8-AF5698F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F106-8C2F-402E-8EE9-F3F15973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0C0C-9901-497E-9943-58A51A1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2562-AEF6-489E-9D32-28F3D19D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95B-4371-450C-A368-AF6DCAC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5E3-A09A-49E5-B0F2-85FB5704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B9C-61C8-4F97-BC6C-7DD1B98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1CE-336B-4AA3-A6C6-D684B4A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BE4-5F83-4597-8309-BB433A3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FA5-347A-4E38-86A9-3B78E02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94B-E6F7-409E-BB34-D1DE51AB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73CF-AEBD-4DFB-A368-6310E5F410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E67-E530-4F3D-9906-0BB42065B3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9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28600" y="533520"/>
          <a:ext cx="8686440" cy="6171840"/>
        </p:xfrm>
        <a:graphic>
          <a:graphicData uri="http://schemas.openxmlformats.org/drawingml/2006/table">
            <a:tbl>
              <a:tblPr/>
              <a:tblGrid>
                <a:gridCol w="4080960"/>
                <a:gridCol w="1150920"/>
                <a:gridCol w="1152360"/>
                <a:gridCol w="1151280"/>
                <a:gridCol w="1150920"/>
              </a:tblGrid>
              <a:tr h="588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3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991720" cy="6096240"/>
        </p:xfrm>
        <a:graphic>
          <a:graphicData uri="http://schemas.openxmlformats.org/drawingml/2006/table">
            <a:tbl>
              <a:tblPr/>
              <a:tblGrid>
                <a:gridCol w="3011760"/>
                <a:gridCol w="947520"/>
                <a:gridCol w="841320"/>
                <a:gridCol w="801720"/>
                <a:gridCol w="901800"/>
                <a:gridCol w="811080"/>
                <a:gridCol w="838440"/>
                <a:gridCol w="83808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 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9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7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2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77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 97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5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 4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6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3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1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 0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 64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 36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8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35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7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812440" cy="5719680"/>
        </p:xfrm>
        <a:graphic>
          <a:graphicData uri="http://schemas.openxmlformats.org/drawingml/2006/table">
            <a:tbl>
              <a:tblPr/>
              <a:tblGrid>
                <a:gridCol w="1979640"/>
                <a:gridCol w="965160"/>
                <a:gridCol w="1040040"/>
                <a:gridCol w="1114200"/>
                <a:gridCol w="1113120"/>
                <a:gridCol w="1039680"/>
                <a:gridCol w="892080"/>
                <a:gridCol w="668520"/>
              </a:tblGrid>
              <a:tr h="55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7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28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54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6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9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2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3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2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7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28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7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3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30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355680" y="927000"/>
          <a:ext cx="8088120" cy="57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7000"/>
                    <a:ext cx="808812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304920" y="925560"/>
          <a:ext cx="853416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5560"/>
                    <a:ext cx="85341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68120" y="795240"/>
          <a:ext cx="8677440" cy="60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795240"/>
                    <a:ext cx="867744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990720"/>
          <a:ext cx="8610480" cy="556236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219320"/>
                <a:gridCol w="1218960"/>
                <a:gridCol w="914400"/>
                <a:gridCol w="990720"/>
              </a:tblGrid>
              <a:tr h="45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ічень 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2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4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42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6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3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05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57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70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3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307800" y="1139760"/>
          <a:ext cx="834876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139760"/>
                    <a:ext cx="834876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8600" y="939960"/>
          <a:ext cx="8686800" cy="5705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 2014рік до факту січня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8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7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91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8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12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1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3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7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5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0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4-02-08T07:45:19Z</dcterms:modified>
  <cp:revision>8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