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05E-9D34-421E-A11C-B88E295F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4D1-D7EB-4E66-B66A-07CA9CB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07C-1790-4AB7-9E73-56F4574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27C-BE0E-487C-85AA-77819701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981-5FAE-4DE6-94B5-CE9E79F6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640-C032-4870-BC16-9F23D36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FA8-B99D-4C18-ABD8-112AF45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1489-8BD4-4BE5-8EC7-717BE29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A776-81A4-4DF5-A060-F0530D85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90C4-999E-4376-AC64-47647FC8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BB8-DC5A-4F04-BD9C-14B9138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B69-9249-4E36-8667-0D32DF7C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391-BC1B-4A50-B44E-CCB28E8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0839-5006-42F4-BA82-E824BAC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36C6-DF0A-4B7B-BFE9-4BA4118D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D2D-9105-4CBA-9799-85E3EAF2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0F47-99A5-4B08-88E6-3B5354FF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53CB-6022-4A83-BCBC-A3E6561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1FAB-AAE2-4016-820B-3916A33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5ADF-2709-4411-B12B-B3B69925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A31A-1071-4BF4-906F-CEC21532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3E01-60B3-4626-8BA1-5E3A29C2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B03-7F4A-4856-BAEC-52D6DB3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D913-0240-4C10-A80E-336C7F7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DE2A-E564-4A6A-920E-C4C466E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74CD-B2DB-4F40-9203-13EBEF3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46F9-703F-4158-B5ED-D5BB455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DD1B-8D72-4C54-9CF2-5DE3DBCD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2820-C016-4243-A996-32D4CE1B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924B-DA7E-4082-BA84-3BE05F6B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1F8-957E-412E-85A6-4F8BB15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E1E-BCE0-461C-B035-DB2C443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04D-1608-47AA-A4F3-2B06351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4FD-6E54-4A69-AEF5-00C093A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2F4-974E-4781-B696-D27E012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8E8-41F1-4DCC-AA19-1B91CE8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ED7-B240-44F2-86F0-5F7D3F66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9EC9-2C02-4D66-B614-C8542F325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7525-E909-4E75-B056-472E50740E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9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28600" y="533520"/>
          <a:ext cx="8686440" cy="6171840"/>
        </p:xfrm>
        <a:graphic>
          <a:graphicData uri="http://schemas.openxmlformats.org/drawingml/2006/table">
            <a:tbl>
              <a:tblPr/>
              <a:tblGrid>
                <a:gridCol w="4080960"/>
                <a:gridCol w="1150920"/>
                <a:gridCol w="1152360"/>
                <a:gridCol w="1151280"/>
                <a:gridCol w="1150920"/>
              </a:tblGrid>
              <a:tr h="588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3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991720" cy="6096240"/>
        </p:xfrm>
        <a:graphic>
          <a:graphicData uri="http://schemas.openxmlformats.org/drawingml/2006/table">
            <a:tbl>
              <a:tblPr/>
              <a:tblGrid>
                <a:gridCol w="3011760"/>
                <a:gridCol w="947520"/>
                <a:gridCol w="841320"/>
                <a:gridCol w="801720"/>
                <a:gridCol w="901800"/>
                <a:gridCol w="811080"/>
                <a:gridCol w="838440"/>
                <a:gridCol w="83808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 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94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70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3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2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8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9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77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 97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5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 47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6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3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1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 0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 64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 36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8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35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7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812440" cy="5719680"/>
        </p:xfrm>
        <a:graphic>
          <a:graphicData uri="http://schemas.openxmlformats.org/drawingml/2006/table">
            <a:tbl>
              <a:tblPr/>
              <a:tblGrid>
                <a:gridCol w="1979640"/>
                <a:gridCol w="965160"/>
                <a:gridCol w="1040040"/>
                <a:gridCol w="1114200"/>
                <a:gridCol w="1113120"/>
                <a:gridCol w="1039680"/>
                <a:gridCol w="892080"/>
                <a:gridCol w="668520"/>
              </a:tblGrid>
              <a:tr h="55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3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17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28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9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54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9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6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9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2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13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2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7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28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7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 3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30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355680" y="927000"/>
          <a:ext cx="8088120" cy="57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7000"/>
                    <a:ext cx="808812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304920" y="925560"/>
          <a:ext cx="853416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5560"/>
                    <a:ext cx="85341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68120" y="795240"/>
          <a:ext cx="8677440" cy="60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795240"/>
                    <a:ext cx="867744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990720"/>
          <a:ext cx="8610480" cy="556236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219320"/>
                <a:gridCol w="1218960"/>
                <a:gridCol w="914400"/>
                <a:gridCol w="990720"/>
              </a:tblGrid>
              <a:tr h="45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ічень 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2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4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42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6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атків міського бюдж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3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05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57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70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3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307800" y="1139760"/>
          <a:ext cx="834876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139760"/>
                    <a:ext cx="834876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8600" y="939960"/>
          <a:ext cx="8686800" cy="5705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 2014рік до факту січня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8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7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91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8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12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1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3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7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5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0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4-02-08T07:45:19Z</dcterms:modified>
  <cp:revision>8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