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40B-EB94-4D79-A832-9DECF2EA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A5D-40A1-4E60-BB05-11EB759A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B52-0D88-4281-84B5-7F88E8CD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DD4-9602-4AD2-BA42-FF834F59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AEE0-362A-4764-A787-3BEA3EA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A8A8-C593-4D5D-8C3F-19C99D26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87C-10CA-4CFF-BAE8-D113098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FBB3-522F-4027-91AE-05DB79E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C7B-61EA-4C4F-A51D-7F507C7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2593-B9CB-4925-A6D5-ABE3F6A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487C-87DE-4F0E-8903-0F0F13E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AEE-9C43-4615-BBA0-AFBB187C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D613-ED63-4D89-A647-4A7E922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D527-A789-4206-90BA-BB14AE49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4BE5-E483-410C-8A28-6CB5F25D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7638-F724-4BDB-8E26-766B171B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DF30-9E8A-4F6F-880D-86DCE537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9190-1DA5-463D-9F37-2A42EA6D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5131-D13E-4B02-B7FC-7024A5B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8C88-DAF5-4D83-AC1C-9513B364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3623-00B4-45A9-89D0-99DBE3E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B736-8B38-4FBA-98E3-C2EAE604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0BE-2294-4ACB-8E2F-F9291B4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D8AA-65BA-4FFA-B2BD-B184F3B2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FE78-30C3-43A0-8FA3-D61AD68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C7D3-649D-49A6-97D8-0296EC6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D719-5FD7-43ED-9361-8A482CE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09E3-977D-4B5F-88A9-DA6FB72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6077-12CC-4C68-9A11-BEDD9D49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4602-22E8-4CCA-98AD-A525789E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940-83AF-4794-8480-8C945ADA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252-8E4C-4CC5-9209-5E3E22B4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795-60DE-426B-A1B7-A341DC6A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5E2-0BD9-4B30-A9FC-B91A58E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EFE-9F5F-4B06-88AE-D94F4FDD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D14-6825-4713-B120-0B30D22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0A1A-5A3C-4CA5-8E04-BA3B2C371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3B2E-EAC8-4739-B956-01169AE391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BE7-58AF-4207-9905-DFD12DD0A7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cc"/>
                </a:solidFill>
                <a:latin typeface="Tahoma"/>
              </a:rPr>
              <a:t>Презентац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ія виконання міського бюджету                  за січень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лютий 201</a:t>
            </a:r>
            <a:r>
              <a:rPr b="0" i="1" lang="en-US" sz="7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i="1" lang="uk-UA" sz="7200" spc="-1" strike="noStrike">
                <a:solidFill>
                  <a:srgbClr val="ffffcc"/>
                </a:solidFill>
                <a:latin typeface="Tahoma"/>
              </a:rPr>
              <a:t> рок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блиця №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 та спеціального фондів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видатках на житлово-комунальне сподарство за січень-лютий 2014 року по головному розпоряднику – Головному управлінню Ж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2280" y="838080"/>
          <a:ext cx="8839440" cy="5753160"/>
        </p:xfrm>
        <a:graphic>
          <a:graphicData uri="http://schemas.openxmlformats.org/drawingml/2006/table">
            <a:tbl>
              <a:tblPr/>
              <a:tblGrid>
                <a:gridCol w="2971800"/>
                <a:gridCol w="914400"/>
                <a:gridCol w="838440"/>
                <a:gridCol w="990360"/>
                <a:gridCol w="838440"/>
                <a:gridCol w="685800"/>
                <a:gridCol w="838080"/>
                <a:gridCol w="76212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-совано за січень-лютий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січень-лютий 2014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но викорис-та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нансування д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чного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росту до фа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ня-лютого 2013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ишки коштів на рахунках ГУЖКГ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01.03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  Ж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Загальний фонд, у т.ч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8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7 33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1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2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 міста, 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9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9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8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доріг та вивезення см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зелених насад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имання кладови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г. мереж зовнішнього освіт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ня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. допомога комунальним п-вам, 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ПУ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рест зеленого господарства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 “Теплоенергети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КПЄЗО “Міськсвітло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 №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пеціальний фонд </a:t>
                      </a:r>
                      <a:r>
                        <a:rPr b="1" i="1" lang="uk-UA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(б-т розвитку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8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 82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7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,0 ра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7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емонт житлов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5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інансування на утримання та ремонт доріг у 2014 році  по Головному управлінню житлово-комунального господарств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57200" y="1600200"/>
          <a:ext cx="4030560" cy="45259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152280" y="1143000"/>
          <a:ext cx="8839440" cy="5573880"/>
        </p:xfrm>
        <a:graphic>
          <a:graphicData uri="http://schemas.openxmlformats.org/drawingml/2006/table">
            <a:tbl>
              <a:tblPr/>
              <a:tblGrid>
                <a:gridCol w="2786040"/>
                <a:gridCol w="1152720"/>
                <a:gridCol w="938160"/>
                <a:gridCol w="990720"/>
                <a:gridCol w="1050840"/>
                <a:gridCol w="863640"/>
                <a:gridCol w="10573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2014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інансовано за січень-лютий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до факту за січень-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лишки на рахунках на 28.0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0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ий фо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2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 раз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ий фонд,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8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9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9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 р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 з державного та обласного бюджетів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спожи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тки розви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И спецфонду- Таблиця №11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 за доходами  за 2014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533520"/>
          <a:ext cx="8686800" cy="6100560"/>
        </p:xfrm>
        <a:graphic>
          <a:graphicData uri="http://schemas.openxmlformats.org/drawingml/2006/table">
            <a:tbl>
              <a:tblPr/>
              <a:tblGrid>
                <a:gridCol w="3429000"/>
                <a:gridCol w="762120"/>
                <a:gridCol w="876240"/>
                <a:gridCol w="723960"/>
                <a:gridCol w="838080"/>
                <a:gridCol w="762120"/>
                <a:gridCol w="609480"/>
                <a:gridCol w="685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ютий 2013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сту до факту січня- лютого 2013 рок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 на 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на січень-лю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-лю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икона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7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ершу реєстрацію транс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провадження торговельної діяльності нафтопродуктами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розви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6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4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5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відчуження май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шти від продажу земельних діля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ти від пайової участі замовни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ток на нерухоме май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нд охорони навколишнього природного середов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шові стягнення за шк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надходження до фонду охоро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ільові фон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ом спеціальний фо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2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67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3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-173160" y="-398520"/>
          <a:ext cx="10001520" cy="791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3160" y="-398520"/>
                    <a:ext cx="1000152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78487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13</a:t>
            </a:r>
            <a:br>
              <a:rPr sz="14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спеціального фонду міського бюджету м.Кіровограда  за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видатками 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2014 році</a:t>
            </a: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52280" y="665280"/>
          <a:ext cx="8839440" cy="6188040"/>
        </p:xfrm>
        <a:graphic>
          <a:graphicData uri="http://schemas.openxmlformats.org/drawingml/2006/table">
            <a:tbl>
              <a:tblPr/>
              <a:tblGrid>
                <a:gridCol w="3021120"/>
                <a:gridCol w="1144440"/>
                <a:gridCol w="939960"/>
                <a:gridCol w="914400"/>
                <a:gridCol w="1060560"/>
                <a:gridCol w="831600"/>
                <a:gridCol w="92736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-вано з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           2013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ень-лютий 2014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у до січня-лютого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лишок коштів на рах. розпорядників на 01.0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 на 2014 рік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нансовано за січень-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виконання до річного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 розвитку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 н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9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ві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 7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7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37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орона здоров'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 35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тлово-комунальне господа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75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9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9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монт дорі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61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4,0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а і фізична 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4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іальний зах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пітальні вклад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 75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7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 5,6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вестиційні проекти (співфін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ески у статутні капіт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 видатки та комп'ютеризація виконавчих орга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50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зробка та коригування містобудівної докумен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7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обл.та район.бюдже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рож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 0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ільові фон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ом видатків з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3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9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сні надходження бюджетних у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1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та обл. бюдже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9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рафік 14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інансування та залишки по спеціальному фонду міського бюджету у 2013 та у 2014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320760" y="915840"/>
          <a:ext cx="866916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15840"/>
                    <a:ext cx="866916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>
                <a:solidFill>
                  <a:srgbClr val="ffffff"/>
                </a:solidFill>
                <a:latin typeface="Tahoma"/>
              </a:rPr>
              <a:t>Дякуємо за увагу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я №1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иконання загального фонду міського бюджету м.Кіровограда  за доходами  за січень-лютий 2014 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609480"/>
          <a:ext cx="8763120" cy="6096240"/>
        </p:xfrm>
        <a:graphic>
          <a:graphicData uri="http://schemas.openxmlformats.org/drawingml/2006/table">
            <a:tbl>
              <a:tblPr/>
              <a:tblGrid>
                <a:gridCol w="2935080"/>
                <a:gridCol w="923400"/>
                <a:gridCol w="819720"/>
                <a:gridCol w="781560"/>
                <a:gridCol w="878760"/>
                <a:gridCol w="790560"/>
                <a:gridCol w="817200"/>
                <a:gridCol w="816840"/>
              </a:tblGrid>
              <a:tr h="398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за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ічень-лютий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 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сту до факту  за січень-лютий 2013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н на січень-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 за січень-лю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викона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Д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250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 2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40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7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 6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аток на прибуток та частина прибутку комунальних підпр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єм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40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користування надр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лата за землю, в т.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2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8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4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9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5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емельний пода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ендна пл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7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ісцеві податки і зб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дмінштрафи та інші санк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дходж.від орендної плати за ЦМ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 р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ржавне ми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Інші надходжен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власні та закріплені дохо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5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25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 27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 0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 20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тація вирівню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1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15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2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25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27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даткові дотаці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05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 8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 87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3 3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1 47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бвенції з Д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03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35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7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19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54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№2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иконання загального фонду зведеного бюджету м.Кіровограда за доходами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січень-лютий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981000"/>
          <a:ext cx="8507520" cy="5719680"/>
        </p:xfrm>
        <a:graphic>
          <a:graphicData uri="http://schemas.openxmlformats.org/drawingml/2006/table">
            <a:tbl>
              <a:tblPr/>
              <a:tblGrid>
                <a:gridCol w="1910880"/>
                <a:gridCol w="931680"/>
                <a:gridCol w="1004400"/>
                <a:gridCol w="1075320"/>
                <a:gridCol w="1074600"/>
                <a:gridCol w="1004040"/>
                <a:gridCol w="861120"/>
                <a:gridCol w="645480"/>
              </a:tblGrid>
              <a:tr h="54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за січень –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до факту за  січень-лютий 2013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січень-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чня-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хи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8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 2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8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2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5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и, що не враховуються при визначенні міжбюджетних трансфертів 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ІІ кош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6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5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86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8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3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2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 1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тація вирівн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1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5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5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27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ткові до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ього доходів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гального фон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35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 5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0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5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4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вен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 0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6 3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 7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 1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 54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3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власних та закріплених доходів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355680" y="928800"/>
          <a:ext cx="8894520" cy="57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28800"/>
                    <a:ext cx="889452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4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одатку на доходи фізичних осіб до міського бюджету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2014р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152280" y="1033560"/>
          <a:ext cx="8839440" cy="55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33560"/>
                    <a:ext cx="883944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рафік №5 </a:t>
            </a: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актичні надходження плати за землю до міського бюджету в розрізі земельного податку 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рендної пла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без с.Нового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 2013р. та за 2014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166680" y="1044720"/>
          <a:ext cx="882504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44720"/>
                    <a:ext cx="8825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и - Таблиця 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нання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міськ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у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іровогра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Times New Roman Cyr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атк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січень-лютий 2014 р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52280" y="990720"/>
          <a:ext cx="8839080" cy="5562360"/>
        </p:xfrm>
        <a:graphic>
          <a:graphicData uri="http://schemas.openxmlformats.org/drawingml/2006/table">
            <a:tbl>
              <a:tblPr/>
              <a:tblGrid>
                <a:gridCol w="2877840"/>
                <a:gridCol w="959040"/>
                <a:gridCol w="1096920"/>
                <a:gridCol w="1095480"/>
                <a:gridCol w="1096920"/>
                <a:gridCol w="822240"/>
                <a:gridCol w="890640"/>
              </a:tblGrid>
              <a:tr h="44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за січень-лютий 2013 ро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2014 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ічень-лютий 2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у до факту січня-лю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икон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ісцев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вряд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9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2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ві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1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 6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27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95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дор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'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5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4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6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захи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6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стец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91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зкульту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тлов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мунальн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спод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8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33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8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рожнє господарство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7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датків міського бюдж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93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 28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07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77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ії, у т.ч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95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 9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6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96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ія за пільговий проїз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7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іаграма №7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видатків загального фонду за січень- лютий 2014 року в розрізі напрямків викорис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307800" y="990720"/>
          <a:ext cx="8348760" cy="505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90720"/>
                    <a:ext cx="834876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аблиця №8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рівняння видатків на заробітну плату та енергоносії по міському бюдж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8600" y="939960"/>
          <a:ext cx="8686800" cy="5705280"/>
        </p:xfrm>
        <a:graphic>
          <a:graphicData uri="http://schemas.openxmlformats.org/drawingml/2006/table">
            <a:tbl>
              <a:tblPr/>
              <a:tblGrid>
                <a:gridCol w="3886200"/>
                <a:gridCol w="1143000"/>
                <a:gridCol w="1066680"/>
                <a:gridCol w="1219320"/>
                <a:gridCol w="13716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3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 січень-лютий 2014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росту факту за січень-лютий 2014 року до факту січня-лютого 2013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и рос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фінансування зарплати та енергоносії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1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3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 8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обітна плата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8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8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0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в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6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7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8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орона здоров"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5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2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оносії, у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5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 82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уги теплопоста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44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9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zko_T</cp:lastModifiedBy>
  <dcterms:modified xsi:type="dcterms:W3CDTF">2014-03-07T12:21:49Z</dcterms:modified>
  <cp:revision>8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