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973-A423-41AD-81B9-9ED0C101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F24-98C4-4688-8C74-1F266385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B8D-2FC3-4B56-88C7-66E9D4D2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346-471B-4EC0-925A-B2955D09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C9B0-6DC1-4C99-80EC-75322C28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C86E-DFCF-4DAA-90A7-6138B0A6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6335-86DB-4990-A48C-CEEB2583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DEA2-865F-437E-BD44-AE889214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C104-EA17-4567-9741-FF596DA0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5F39-0B74-4535-A1B5-1A19A8EA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FCE4-51FC-4F69-84DD-A7927E6D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3FA-6FEF-4C87-B5B6-7985E47D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DDF4-674B-47C2-BB87-C7CF61A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85E1-B6C2-45E9-B4F7-EAC2E139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73EB-ABBF-4E72-9EED-27245B7E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1C5A-271F-4302-8CF8-1601909C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296E-A421-43C9-BF0E-E05BFBBC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3748-6AF7-4162-B01E-AC07DE1D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586F-0DF1-41AA-BBAC-65B55BBA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9099-E1FF-4CDE-8D86-A45E41E9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D3F2-F0F2-4B11-8308-30CF24F4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7506-34EF-46A6-A498-ABA373EB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B58-A637-490D-957D-B7A3C03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18C0-57A2-487B-9D41-CAC5C9BF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F350-421F-4C73-903C-0FAFC59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CBAF-C328-47D5-8A33-7CB363BD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4D7A-8B78-4251-B9D6-ACCED15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851C-9F64-4154-AA3A-64DB772B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0B65-EF72-4FC5-A410-60748EC4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DDAC-8197-4FD9-8C06-02215960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96D-4CD3-4669-A12A-63612F05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708-7BFF-469B-9857-650FB0C8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6A0-73DA-48D4-82BB-569A8445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5A4-0AF4-4945-81E9-643C19A6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0CA-A62E-45B4-9D7B-CA04F5A3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243-6E55-41BE-8134-91C9E830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B5CB-104C-4F40-8ED4-2B753F1DB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78F9-7845-4547-BD35-184074F886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168F-EC2F-42D1-AF86-C2E91BC5A9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cc"/>
                </a:solidFill>
                <a:latin typeface="Tahoma"/>
              </a:rPr>
              <a:t>Презентац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ія виконання міського бюджету                  за січень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лютий 201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 рок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лютий 2014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52280" y="838080"/>
          <a:ext cx="8839440" cy="575316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90360"/>
                <a:gridCol w="838440"/>
                <a:gridCol w="685800"/>
                <a:gridCol w="838080"/>
                <a:gridCol w="76212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-совано за січень-лютий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лютий 2014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-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росту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лютого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03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1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 8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7 33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 15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28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7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9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9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8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7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8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82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77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,0 ра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77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5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0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0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0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2014 році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152280" y="1143000"/>
          <a:ext cx="8839440" cy="5573880"/>
        </p:xfrm>
        <a:graphic>
          <a:graphicData uri="http://schemas.openxmlformats.org/drawingml/2006/table">
            <a:tbl>
              <a:tblPr/>
              <a:tblGrid>
                <a:gridCol w="2786040"/>
                <a:gridCol w="1152720"/>
                <a:gridCol w="938160"/>
                <a:gridCol w="990720"/>
                <a:gridCol w="1050840"/>
                <a:gridCol w="863640"/>
                <a:gridCol w="10573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2014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лютий 2014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-лютий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на рахунках на 28.0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60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1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2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 раз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188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9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9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ержавного та обласного бюджетів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5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1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2014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28600" y="533520"/>
          <a:ext cx="8686800" cy="6100560"/>
        </p:xfrm>
        <a:graphic>
          <a:graphicData uri="http://schemas.openxmlformats.org/drawingml/2006/table">
            <a:tbl>
              <a:tblPr/>
              <a:tblGrid>
                <a:gridCol w="3429000"/>
                <a:gridCol w="762120"/>
                <a:gridCol w="876240"/>
                <a:gridCol w="723960"/>
                <a:gridCol w="838080"/>
                <a:gridCol w="762120"/>
                <a:gridCol w="609480"/>
                <a:gridCol w="685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лютий 2013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 лютого 2013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на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січень-лю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лю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викона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7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6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4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5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6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80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2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67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-173160" y="-398520"/>
          <a:ext cx="10001520" cy="791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3160" y="-398520"/>
                    <a:ext cx="1000152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3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датками 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4 році</a:t>
            </a: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52280" y="665280"/>
          <a:ext cx="8839440" cy="6188040"/>
        </p:xfrm>
        <a:graphic>
          <a:graphicData uri="http://schemas.openxmlformats.org/drawingml/2006/table">
            <a:tbl>
              <a:tblPr/>
              <a:tblGrid>
                <a:gridCol w="3021120"/>
                <a:gridCol w="1144440"/>
                <a:gridCol w="939960"/>
                <a:gridCol w="914400"/>
                <a:gridCol w="1060560"/>
                <a:gridCol w="831600"/>
                <a:gridCol w="92736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-вано з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ютий           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ютий 2014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січня-лютого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ок коштів на рах. розпорядників на 01.03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на 2014 рік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за січень-лю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виконан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9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7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37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37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 3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 75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9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9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61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4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4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 75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7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5,6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5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обл.та район.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 0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36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50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9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сні надходження бюджетних уст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1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7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98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9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4</a:t>
            </a:r>
            <a:br>
              <a:rPr sz="1400"/>
            </a:b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спеціальному фонду міського бюджету у 2013 та у 2014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Object 2"/>
          <p:cNvGraphicFramePr/>
          <p:nvPr/>
        </p:nvGraphicFramePr>
        <p:xfrm>
          <a:off x="320760" y="915840"/>
          <a:ext cx="866916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15840"/>
                    <a:ext cx="866916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ahoma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січень-лютий 2014 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280" y="609480"/>
          <a:ext cx="8763120" cy="6096240"/>
        </p:xfrm>
        <a:graphic>
          <a:graphicData uri="http://schemas.openxmlformats.org/drawingml/2006/table">
            <a:tbl>
              <a:tblPr/>
              <a:tblGrid>
                <a:gridCol w="2935080"/>
                <a:gridCol w="923400"/>
                <a:gridCol w="819720"/>
                <a:gridCol w="781560"/>
                <a:gridCol w="878760"/>
                <a:gridCol w="790560"/>
                <a:gridCol w="817200"/>
                <a:gridCol w="816840"/>
              </a:tblGrid>
              <a:tr h="398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за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ічень-лютий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січень-лютий 2013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січень-лю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за січень-лю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250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 2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40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7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 6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40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2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8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4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1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5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0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9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3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7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56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25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 2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 06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 2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12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15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25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27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05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4 8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 87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3 3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1 47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03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 35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74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19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54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-лютий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981000"/>
          <a:ext cx="8507520" cy="5719680"/>
        </p:xfrm>
        <a:graphic>
          <a:graphicData uri="http://schemas.openxmlformats.org/drawingml/2006/table">
            <a:tbl>
              <a:tblPr/>
              <a:tblGrid>
                <a:gridCol w="1910880"/>
                <a:gridCol w="931680"/>
                <a:gridCol w="1004400"/>
                <a:gridCol w="1075320"/>
                <a:gridCol w="1074600"/>
                <a:gridCol w="1004040"/>
                <a:gridCol w="861120"/>
                <a:gridCol w="645480"/>
              </a:tblGrid>
              <a:tr h="54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 –лютий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 за  січень-лютий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ня-лю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8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2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8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2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5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не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6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56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86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 8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3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24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 14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я вирівн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12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1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2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 27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аткові до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35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 5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 4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 0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6 3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 7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 19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 54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2"/>
          <p:cNvGraphicFramePr/>
          <p:nvPr/>
        </p:nvGraphicFramePr>
        <p:xfrm>
          <a:off x="355680" y="928800"/>
          <a:ext cx="8894520" cy="57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28800"/>
                    <a:ext cx="889452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152280" y="1033560"/>
          <a:ext cx="8839440" cy="55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33560"/>
                    <a:ext cx="8839440" cy="55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за 2014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166680" y="1044720"/>
          <a:ext cx="882504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44720"/>
                    <a:ext cx="8825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лютий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52280" y="990720"/>
          <a:ext cx="8839080" cy="5562360"/>
        </p:xfrm>
        <a:graphic>
          <a:graphicData uri="http://schemas.openxmlformats.org/drawingml/2006/table">
            <a:tbl>
              <a:tblPr/>
              <a:tblGrid>
                <a:gridCol w="2877840"/>
                <a:gridCol w="959040"/>
                <a:gridCol w="1096920"/>
                <a:gridCol w="1095480"/>
                <a:gridCol w="1096920"/>
                <a:gridCol w="822240"/>
                <a:gridCol w="890640"/>
              </a:tblGrid>
              <a:tr h="44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за січень-лютий 2013 ро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2014 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ічень-лютий 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 січня-лю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9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2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14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 6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27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95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5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4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5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6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6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4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91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7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од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8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33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8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7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93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 28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07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77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95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 9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68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96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7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видатків загального фонду за січень- лютий 2014 року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307800" y="990720"/>
          <a:ext cx="8348760" cy="505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90720"/>
                    <a:ext cx="834876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8600" y="939960"/>
          <a:ext cx="8686800" cy="57052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4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росту факту за січень-лютий 2014 року до факту січня-лютого 2013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18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3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 8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8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8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 02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6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78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8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25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2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35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 82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44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8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 96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zko_T</cp:lastModifiedBy>
  <dcterms:modified xsi:type="dcterms:W3CDTF">2014-03-07T12:21:49Z</dcterms:modified>
  <cp:revision>8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