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487-A535-4F6E-A2C9-45DDE1B7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A4A-4B10-4014-B8BA-2734E438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43E-311B-4E35-8357-84E36CF4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761-FC91-43DB-845F-A5279727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6491-616D-4F96-976B-05F46562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0C70-E895-4066-A4AB-D1124E0F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FECF-9655-4473-9632-4F799A42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0850-F2DC-404B-B914-1097A6B9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300D-6FB6-4F1F-8129-CC6316D3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562D-CD3E-40C0-9CD3-1B21CE40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4310-2DE4-4D15-A30F-78688AEC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752-1AA6-4808-B039-57FA1835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AAA5-3892-428E-BF0F-3519DB95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905D-0473-406B-A06B-0A4EF390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84B0-37B3-46E4-99CA-173854CA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9807-FA09-4944-97C8-59212B3F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FDF3-C9DF-4EAB-A127-CC87C371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FD92-50DC-4E36-BA86-40893F48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756BF-50D1-49A8-BB32-51989905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322F-C8C5-4C6C-8541-FC495D34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C841-B205-4F72-8727-3B6F3824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72EAD-C169-417E-A2FA-865B86A7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040-6D24-446B-9618-D18F0E11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D4A9-ADBC-4375-A420-BBF0DA5A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76694-F740-4856-BDDE-FB7703DA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0C2BB-A682-4DAF-A4CD-A35DF19E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7D189-1747-40E3-9951-7D846E9A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94A7E-831B-4302-911A-D3C5A549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CE8D-ABB9-4B1F-9AF7-8E14D10A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16D3-C5FA-46B3-92E8-E1603349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34B-981C-41CF-BF49-E9C3F48A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11B-DE09-4ADC-9690-A59652B4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C45-3EBE-45A4-9975-CADB839C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24C-1502-484D-9DBA-4010A136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867-9441-4154-8B56-3DE8FBDA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A86-59AD-42BE-AB05-79853F29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B81D-5B22-44EE-902D-8FB15EEF71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B3DF-D451-42A5-9B76-9173F41FFD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36CF-4A97-42D0-B955-7922DE2501F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cc"/>
                </a:solidFill>
                <a:latin typeface="Tahoma"/>
              </a:rPr>
              <a:t>Презентац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ія виконання міського бюджету                  за січень</a:t>
            </a:r>
            <a:r>
              <a:rPr b="0" i="1" lang="en-US" sz="72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березень 201</a:t>
            </a:r>
            <a:r>
              <a:rPr b="0" i="1" lang="en-US" sz="7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 рок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січень-березень 2014 року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52280" y="838080"/>
          <a:ext cx="8839440" cy="6050160"/>
        </p:xfrm>
        <a:graphic>
          <a:graphicData uri="http://schemas.openxmlformats.org/drawingml/2006/table">
            <a:tbl>
              <a:tblPr/>
              <a:tblGrid>
                <a:gridCol w="2971800"/>
                <a:gridCol w="914400"/>
                <a:gridCol w="838440"/>
                <a:gridCol w="914400"/>
                <a:gridCol w="761760"/>
                <a:gridCol w="762120"/>
                <a:gridCol w="838080"/>
                <a:gridCol w="838440"/>
              </a:tblGrid>
              <a:tr h="105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-совано за січень-березень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січень-березень 2014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-ста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фінансуван-ня до фа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уван-ня за січень-березень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 ГУЖКГ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01.04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08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16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21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7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4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69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7 33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44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32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4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9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9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7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3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. допомога комунальним п-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0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КПЄЗО “Міськсвітло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 №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39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 82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77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5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523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5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0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5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0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2014 році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152280" y="1143000"/>
          <a:ext cx="8839440" cy="5573880"/>
        </p:xfrm>
        <a:graphic>
          <a:graphicData uri="http://schemas.openxmlformats.org/drawingml/2006/table">
            <a:tbl>
              <a:tblPr/>
              <a:tblGrid>
                <a:gridCol w="2786040"/>
                <a:gridCol w="1152720"/>
                <a:gridCol w="938160"/>
                <a:gridCol w="990720"/>
                <a:gridCol w="1050840"/>
                <a:gridCol w="863640"/>
                <a:gridCol w="10573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берез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2014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 за січень-березень 2014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січень-берез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лишки на рахунках на 01.0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3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0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2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2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6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9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188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5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0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ержавного та обласного бюджетів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8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5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6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19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4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4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4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5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1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2014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28600" y="533520"/>
          <a:ext cx="8610480" cy="6091200"/>
        </p:xfrm>
        <a:graphic>
          <a:graphicData uri="http://schemas.openxmlformats.org/drawingml/2006/table">
            <a:tbl>
              <a:tblPr/>
              <a:tblGrid>
                <a:gridCol w="3981600"/>
                <a:gridCol w="1017360"/>
                <a:gridCol w="1019160"/>
                <a:gridCol w="1019160"/>
                <a:gridCol w="739800"/>
                <a:gridCol w="8334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березень 2013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- березень 2013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на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березен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виконання річного план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1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8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6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4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4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80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83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39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28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6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1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36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8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Object 2"/>
          <p:cNvGraphicFramePr/>
          <p:nvPr/>
        </p:nvGraphicFramePr>
        <p:xfrm>
          <a:off x="-177840" y="-403200"/>
          <a:ext cx="9263160" cy="749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7840" y="-403200"/>
                    <a:ext cx="9263160" cy="749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Text Box 3"/>
          <p:cNvSpPr/>
          <p:nvPr/>
        </p:nvSpPr>
        <p:spPr>
          <a:xfrm>
            <a:off x="78487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3</a:t>
            </a:r>
            <a:br>
              <a:rPr sz="14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за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датками у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2014 році</a:t>
            </a: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280" y="762120"/>
          <a:ext cx="8839440" cy="5945040"/>
        </p:xfrm>
        <a:graphic>
          <a:graphicData uri="http://schemas.openxmlformats.org/drawingml/2006/table">
            <a:tbl>
              <a:tblPr/>
              <a:tblGrid>
                <a:gridCol w="3021120"/>
                <a:gridCol w="1144440"/>
                <a:gridCol w="939960"/>
                <a:gridCol w="914400"/>
                <a:gridCol w="1060560"/>
                <a:gridCol w="831600"/>
                <a:gridCol w="92736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-вано з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березень           2013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березень 2014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до січня-березня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лишок коштів на рахунках розпоряд-ників на 01.04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на 2014 рік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за січень-берез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виконан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98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9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6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ві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 74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4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9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 35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0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 господар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6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 75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91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60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6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61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41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пітальні вклад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7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 75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82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,0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63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45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4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та комп'ютеризація виконавчих орган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1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50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7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 районним  та обл. бюдже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 0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 з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5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36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3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17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92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3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8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9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Графік 14</a:t>
            </a:r>
            <a:br>
              <a:rPr sz="1400"/>
            </a:b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інансування та залишки по спеціальному фонду міського бюджету у 2013 та у 2014 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Object 2"/>
          <p:cNvGraphicFramePr/>
          <p:nvPr/>
        </p:nvGraphicFramePr>
        <p:xfrm>
          <a:off x="0" y="914400"/>
          <a:ext cx="914400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>
                <a:solidFill>
                  <a:srgbClr val="ffffff"/>
                </a:solidFill>
                <a:latin typeface="Tahoma"/>
              </a:rPr>
              <a:t>Дякуємо за уваг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січень-березень  2014 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52280" y="609480"/>
          <a:ext cx="8763120" cy="6174000"/>
        </p:xfrm>
        <a:graphic>
          <a:graphicData uri="http://schemas.openxmlformats.org/drawingml/2006/table">
            <a:tbl>
              <a:tblPr/>
              <a:tblGrid>
                <a:gridCol w="2935440"/>
                <a:gridCol w="923760"/>
                <a:gridCol w="819360"/>
                <a:gridCol w="807840"/>
                <a:gridCol w="852480"/>
                <a:gridCol w="790560"/>
                <a:gridCol w="816120"/>
                <a:gridCol w="817560"/>
              </a:tblGrid>
              <a:tr h="397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за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ічень-березень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 за січень-березень2013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січень-берез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за січень-берез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175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8 2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 119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 65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 46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52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8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9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1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8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3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5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3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8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6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5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08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5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7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1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4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25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0 37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1 70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8 6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41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15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28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33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 02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4 88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8 78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9 1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 6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 6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 06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 16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 93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 2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-березень 2014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79280" y="981000"/>
          <a:ext cx="8507520" cy="5448240"/>
        </p:xfrm>
        <a:graphic>
          <a:graphicData uri="http://schemas.openxmlformats.org/drawingml/2006/table">
            <a:tbl>
              <a:tblPr/>
              <a:tblGrid>
                <a:gridCol w="1911600"/>
                <a:gridCol w="931680"/>
                <a:gridCol w="1003320"/>
                <a:gridCol w="1076400"/>
                <a:gridCol w="1074600"/>
                <a:gridCol w="1003320"/>
                <a:gridCol w="862200"/>
                <a:gridCol w="6444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 –берез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до факту за  січень-берез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-берез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ня-берез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и, що враховуються при визначенні міжбюджетних трансфертів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І кош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7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 25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 74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33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 4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и, що не враховуються при визначенні міжбюджетних трансфертів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ІІ кош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30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1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23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 8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 0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45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 6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ія вирівню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4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 15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28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33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5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аткові дот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75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 5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4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9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 55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8 69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6 35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 16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 93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7 22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2014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2"/>
          <p:cNvGraphicFramePr/>
          <p:nvPr/>
        </p:nvGraphicFramePr>
        <p:xfrm>
          <a:off x="355680" y="928800"/>
          <a:ext cx="8894520" cy="57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28800"/>
                    <a:ext cx="889452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2014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Object 2"/>
          <p:cNvGraphicFramePr/>
          <p:nvPr/>
        </p:nvGraphicFramePr>
        <p:xfrm>
          <a:off x="142920" y="914400"/>
          <a:ext cx="89154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914400"/>
                    <a:ext cx="89154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5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за 2014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Object 2"/>
          <p:cNvGraphicFramePr/>
          <p:nvPr/>
        </p:nvGraphicFramePr>
        <p:xfrm>
          <a:off x="165240" y="1042920"/>
          <a:ext cx="8712000" cy="550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042920"/>
                    <a:ext cx="8712000" cy="55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-березень 2014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52280" y="990720"/>
          <a:ext cx="8915400" cy="5776920"/>
        </p:xfrm>
        <a:graphic>
          <a:graphicData uri="http://schemas.openxmlformats.org/drawingml/2006/table">
            <a:tbl>
              <a:tblPr/>
              <a:tblGrid>
                <a:gridCol w="2743200"/>
                <a:gridCol w="990720"/>
                <a:gridCol w="990720"/>
                <a:gridCol w="990360"/>
                <a:gridCol w="990720"/>
                <a:gridCol w="762120"/>
                <a:gridCol w="685800"/>
                <a:gridCol w="76176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ікансовано за січень-березень 2013 ро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інансування січня-берез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інансовано за січень-берез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за січень-берез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фінансування до річного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2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6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3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46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 6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30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06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2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47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43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9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2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3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91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2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6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3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од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9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33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2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7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видатків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 56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 99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76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66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9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ія вирівнювання районним бюдже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3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3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3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25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 96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9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9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2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7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7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видатків загального фонду за січень- березень 2014 року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Object 4"/>
          <p:cNvGraphicFramePr/>
          <p:nvPr/>
        </p:nvGraphicFramePr>
        <p:xfrm>
          <a:off x="228600" y="1143000"/>
          <a:ext cx="850896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5089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8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52280" y="762120"/>
          <a:ext cx="8686800" cy="592128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7040"/>
                <a:gridCol w="1218960"/>
                <a:gridCol w="137160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 за січень-березень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 за січень-березень 2014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росту факту за січень-березень 2014 року до факту січня-березня 2013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88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00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 8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06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66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0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96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27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9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2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8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 48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96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 93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umeyko_T</cp:lastModifiedBy>
  <dcterms:modified xsi:type="dcterms:W3CDTF">2014-04-04T11:50:23Z</dcterms:modified>
  <cp:revision>8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