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E159-F386-4E2E-8A2E-CA616726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59E3-B969-47B3-A217-5852A344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53A-786D-46E1-870F-7F16B543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6B2-85BA-46A9-8D75-4B70F506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9E66-F9B0-487E-908D-8C4096CC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7ED5-EAB2-4639-8CD5-82C506C1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FC3F-77C4-403F-8462-C938D6B7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356C-328C-4C04-8EC6-8DADE346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D161-F504-4A69-AE72-8A38650F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59E1-2AFD-478F-B7EA-42FDD377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10D6-36CD-4764-9189-6659E579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1EF1-43C2-44F5-A256-357E23E1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C1FB-A504-4713-82E4-7C53E539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1F26-791D-4D04-AAB7-0829EEBF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EF62-2EEF-4381-908A-D08D7AD3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8D8A-A23C-4055-AC64-60492FC6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50C1-6924-42CE-9C56-AE92D688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16297-5013-47AD-B200-0FA69146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3146E-DA7F-48EC-B310-8238CE85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41B04-C929-4609-B8F0-DBE03FA2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7D0DA-698A-48AC-907B-B57A95AB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E093A-AC62-4FE1-80B3-F6E0E01A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DFB2-E8A2-4A65-98F4-82181A09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3027D-FA37-44BE-BE56-AB8958C8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ADDAC-8A5E-412F-88E2-9CEB3D9A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855F8-892A-42D1-85EB-0793ACDB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EA357-A5BC-4990-B655-EA9ED028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30CCE-1F69-4347-A439-1396E6EC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43A67-CC77-4781-93D7-63A334D8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31209-7040-42C7-9408-1FA3C75B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6F1-B9A8-4F3F-B02E-DAC3F37A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8B5-C819-4703-89C8-42E89E94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1CA5-43CE-4D0B-854D-A07CAAEE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6E7-289E-4450-B19A-1F2041A2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4B3-231F-4A4B-A55F-C05AE78B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77A-DAFB-45B1-94FA-DA04B856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F932-D09A-4229-8ACC-D9AF7EE9AB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49FD-B1AF-4DA7-AD8E-8A088D8217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85E8-7650-4950-8844-5B9F1140E02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ffcc"/>
                </a:solidFill>
                <a:latin typeface="Tahoma"/>
              </a:rPr>
              <a:t>Презентац</a:t>
            </a:r>
            <a:r>
              <a:rPr b="0" i="1" lang="uk-UA" sz="7200" spc="-1" strike="noStrike">
                <a:solidFill>
                  <a:srgbClr val="ffffcc"/>
                </a:solidFill>
                <a:latin typeface="Tahoma"/>
              </a:rPr>
              <a:t>ія виконання міського бюджету                  за січень</a:t>
            </a:r>
            <a:r>
              <a:rPr b="0" i="1" lang="en-US" sz="72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i="1" lang="uk-UA" sz="7200" spc="-1" strike="noStrike">
                <a:solidFill>
                  <a:srgbClr val="ffffcc"/>
                </a:solidFill>
                <a:latin typeface="Tahoma"/>
              </a:rPr>
              <a:t>березень 201</a:t>
            </a:r>
            <a:r>
              <a:rPr b="0" i="1" lang="en-US" sz="72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i="1" lang="uk-UA" sz="7200" spc="-1" strike="noStrike">
                <a:solidFill>
                  <a:srgbClr val="ffffcc"/>
                </a:solidFill>
                <a:latin typeface="Tahoma"/>
              </a:rPr>
              <a:t> року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блиця №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 та спеціального фондів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 видатках на житлово-комунальне сподарство за січень-березень 2014 року по головному розпоряднику – Головному управлінню Ж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152280" y="838080"/>
          <a:ext cx="8839440" cy="6050160"/>
        </p:xfrm>
        <a:graphic>
          <a:graphicData uri="http://schemas.openxmlformats.org/drawingml/2006/table">
            <a:tbl>
              <a:tblPr/>
              <a:tblGrid>
                <a:gridCol w="2971800"/>
                <a:gridCol w="914400"/>
                <a:gridCol w="838440"/>
                <a:gridCol w="914400"/>
                <a:gridCol w="761760"/>
                <a:gridCol w="762120"/>
                <a:gridCol w="838080"/>
                <a:gridCol w="838440"/>
              </a:tblGrid>
              <a:tr h="105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-совано за січень-березень 2013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 рік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вано січень-березень 2014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но викори-ста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нансування до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ічного план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фінансуван-ня до фа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уван-ня за січень-березень 2013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ишки коштів на рахунках ГУЖКГ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01.04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  Ж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08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16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21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57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4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Загальний фонд, у т.ч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 69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7 33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 44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 32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1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 міста, 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4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93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9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7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доріг та вивезення см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3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1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1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зелених насадж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3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кладови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уг. мереж зовнішнього освіт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ня кредиторської заборгова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6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6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ін. допомога комунальним п-вам, 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4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40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8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ПУ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рест зеленого господарства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еплоенергети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КПЄЗО “Міськсвітло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П №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Спеціальний фонд </a:t>
                      </a:r>
                      <a:r>
                        <a:rPr b="1" i="1" lang="uk-UA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(б-т розвитку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39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4 82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 77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5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9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 523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ремонт житлового фон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9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15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0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5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0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інансування на утримання та ремонт доріг у 2014 році  по Головному управлінню житлово-комунального господарства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25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152280" y="1143000"/>
          <a:ext cx="8839440" cy="5573880"/>
        </p:xfrm>
        <a:graphic>
          <a:graphicData uri="http://schemas.openxmlformats.org/drawingml/2006/table">
            <a:tbl>
              <a:tblPr/>
              <a:tblGrid>
                <a:gridCol w="2786040"/>
                <a:gridCol w="1152720"/>
                <a:gridCol w="938160"/>
                <a:gridCol w="990720"/>
                <a:gridCol w="1050840"/>
                <a:gridCol w="863640"/>
                <a:gridCol w="10573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берез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на 2014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совано за січень-березень 2014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нансування д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ічного пла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до факту за січень-березень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лишки на рахунках на 01.04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3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21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20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42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льний фон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6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2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56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5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ьний фонд,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9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188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50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706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жн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3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1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 з державного та обласного бюджетів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78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53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63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19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спожи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4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8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4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4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5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4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4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ДОХОДИ спецфонду- Таблиця №11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 за доходами  за 2014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228600" y="533520"/>
          <a:ext cx="8610480" cy="6091200"/>
        </p:xfrm>
        <a:graphic>
          <a:graphicData uri="http://schemas.openxmlformats.org/drawingml/2006/table">
            <a:tbl>
              <a:tblPr/>
              <a:tblGrid>
                <a:gridCol w="3981600"/>
                <a:gridCol w="1017360"/>
                <a:gridCol w="1019160"/>
                <a:gridCol w="1019160"/>
                <a:gridCol w="739800"/>
                <a:gridCol w="83340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-березень 2013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 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росту до факту січня- березень 2013 рок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 на 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-березен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виконання річного план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1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ершу реєстрацію транс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ровадження торговельної діяльності нафтопродуктами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 розвит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8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65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04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Єди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4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80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83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ходження від відчуження май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шти від продажу земельних ділян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шти від пайової участі замовни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аток на нерухоме май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нд охорони навколишнього природного середовищ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ошові стягнення за шк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кологіч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ші надходження до фонду охоро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ільов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ом спеціальний фон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39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28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6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вен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1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36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88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Object 2"/>
          <p:cNvGraphicFramePr/>
          <p:nvPr/>
        </p:nvGraphicFramePr>
        <p:xfrm>
          <a:off x="-177840" y="-403200"/>
          <a:ext cx="9263160" cy="749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7840" y="-403200"/>
                    <a:ext cx="9263160" cy="749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Text Box 3"/>
          <p:cNvSpPr/>
          <p:nvPr/>
        </p:nvSpPr>
        <p:spPr>
          <a:xfrm>
            <a:off x="7848720" y="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3</a:t>
            </a:r>
            <a:br>
              <a:rPr sz="14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за 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видатками у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2014 році</a:t>
            </a:r>
            <a:br>
              <a:rPr sz="12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52280" y="762120"/>
          <a:ext cx="8839440" cy="5945040"/>
        </p:xfrm>
        <a:graphic>
          <a:graphicData uri="http://schemas.openxmlformats.org/drawingml/2006/table">
            <a:tbl>
              <a:tblPr/>
              <a:tblGrid>
                <a:gridCol w="3021120"/>
                <a:gridCol w="1144440"/>
                <a:gridCol w="939960"/>
                <a:gridCol w="914400"/>
                <a:gridCol w="1060560"/>
                <a:gridCol w="831600"/>
                <a:gridCol w="92736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-вано з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-березень           2013 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-березень 2014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ту до січня-березня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лишок коштів на рахунках розпоряд-ників на 01.04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на 2014 рік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вано за січень-берез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виконання до р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юджет розвитку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 н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698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 99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01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36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сві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 74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49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40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хорона здоров'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9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 35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0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житлово-комунальне господар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56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 75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91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0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60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монт дорі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6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61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ультура і фізична куль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41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0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ціальний зах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пітальні вклад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7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 75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82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,0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63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вестиційні проекти (співфін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45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4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нески у статутні капіта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 видатки та комп'ютеризація виконавчих орган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1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50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6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6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зробка та коригування містобудівної докумен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70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 районним  та обл. бюджет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рожн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3 03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ільові фон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ом видатків з міського бюдж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05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 36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83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17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та обл. бюдже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92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30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98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19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Графік 14</a:t>
            </a:r>
            <a:br>
              <a:rPr sz="1400"/>
            </a:b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Фінансування та залишки по спеціальному фонду міського бюджету у 2013 та у 2014 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Object 2"/>
          <p:cNvGraphicFramePr/>
          <p:nvPr/>
        </p:nvGraphicFramePr>
        <p:xfrm>
          <a:off x="0" y="914400"/>
          <a:ext cx="914400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609480" y="23320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8000" spc="-1" strike="noStrike">
                <a:solidFill>
                  <a:srgbClr val="ffffff"/>
                </a:solidFill>
                <a:latin typeface="Tahoma"/>
              </a:rPr>
              <a:t>Дякуємо за увагу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№1</a:t>
            </a:r>
            <a:br>
              <a:rPr sz="18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загального фонду міського бюджету м.Кіровограда  за доходами  за січень-березень  2014 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52280" y="609480"/>
          <a:ext cx="8763120" cy="6174000"/>
        </p:xfrm>
        <a:graphic>
          <a:graphicData uri="http://schemas.openxmlformats.org/drawingml/2006/table">
            <a:tbl>
              <a:tblPr/>
              <a:tblGrid>
                <a:gridCol w="2935440"/>
                <a:gridCol w="923760"/>
                <a:gridCol w="819360"/>
                <a:gridCol w="807840"/>
                <a:gridCol w="852480"/>
                <a:gridCol w="790560"/>
                <a:gridCol w="816120"/>
                <a:gridCol w="817560"/>
              </a:tblGrid>
              <a:tr h="397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 за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ічень-березень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 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 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сту до факту  за січень-березень2013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 на 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 на січень-берез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акт за січень-берез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ідхил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виконан-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ДФ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 175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8 2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 119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 65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 46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аток на прибуток та частина прибутку комунальних підп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єм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користування надр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землю, в т.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52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8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69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1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8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емельний подат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3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12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5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3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ендна пл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78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67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54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08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5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ісцеві податки і збо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0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81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7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дмінштрафи та інші санк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дходж.від орендної плати за ЦМ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1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0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ржавне ми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надходж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7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власні та закріплені дохо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 49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1 25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0 37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1 70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8 66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тація вирівню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41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 15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28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 33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5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даткові до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доходів 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 02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4 88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8 78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9 15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9 6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 69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7 06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 16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 93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 22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аблиця №2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иконання загального фонду зведеного бюджету м.Кіровограда за доходами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 січень-березень 2014 р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79280" y="981000"/>
          <a:ext cx="8507520" cy="5448240"/>
        </p:xfrm>
        <a:graphic>
          <a:graphicData uri="http://schemas.openxmlformats.org/drawingml/2006/table">
            <a:tbl>
              <a:tblPr/>
              <a:tblGrid>
                <a:gridCol w="1911600"/>
                <a:gridCol w="931680"/>
                <a:gridCol w="1003320"/>
                <a:gridCol w="1076400"/>
                <a:gridCol w="1074600"/>
                <a:gridCol w="1003320"/>
                <a:gridCol w="862200"/>
                <a:gridCol w="64440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 –березень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до факту за  січень-березень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січень-берез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ня-берез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хи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икон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ходи, що враховуються при визначенні міжбюджетних трансфертів 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І кошик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79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 25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 74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 33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 41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ходи, що не враховуються при визначенні міжбюджетних трансфертів 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ІІ кошик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43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61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30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11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 23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8 87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 05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 45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 60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тація вирівню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41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 15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28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33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5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даткові дот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доходів </a:t>
                      </a: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 75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2 51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46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90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 55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вен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8 69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6 35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8 16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0 93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7 22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3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власних та закріплених доходів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3р. та 2014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Object 2"/>
          <p:cNvGraphicFramePr/>
          <p:nvPr/>
        </p:nvGraphicFramePr>
        <p:xfrm>
          <a:off x="355680" y="928800"/>
          <a:ext cx="8894520" cy="570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928800"/>
                    <a:ext cx="889452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4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одатку на доходи фізичних осіб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3р. та 2014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Object 2"/>
          <p:cNvGraphicFramePr/>
          <p:nvPr/>
        </p:nvGraphicFramePr>
        <p:xfrm>
          <a:off x="142920" y="914400"/>
          <a:ext cx="89154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914400"/>
                    <a:ext cx="89154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5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лати за землю до міського бюджету в розрізі земельного податку 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орендної пла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без с.Нового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3р. та за 2014р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Object 2"/>
          <p:cNvGraphicFramePr/>
          <p:nvPr/>
        </p:nvGraphicFramePr>
        <p:xfrm>
          <a:off x="165240" y="1042920"/>
          <a:ext cx="8712000" cy="550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042920"/>
                    <a:ext cx="8712000" cy="55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и - Таблиця №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нд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ам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січень-березень 2014 р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152280" y="990720"/>
          <a:ext cx="8915400" cy="5776920"/>
        </p:xfrm>
        <a:graphic>
          <a:graphicData uri="http://schemas.openxmlformats.org/drawingml/2006/table">
            <a:tbl>
              <a:tblPr/>
              <a:tblGrid>
                <a:gridCol w="2743200"/>
                <a:gridCol w="990720"/>
                <a:gridCol w="990720"/>
                <a:gridCol w="990360"/>
                <a:gridCol w="990720"/>
                <a:gridCol w="762120"/>
                <a:gridCol w="685800"/>
                <a:gridCol w="76176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ікансовано за січень-березень 2013 ро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 рі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у до фінансування січня-берез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ишки коштів на рахун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рі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інансовано за січень-берез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 за січень-берез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фінансування до річного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ісцево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вряд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9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28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6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3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ві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 46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 62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 30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 06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доро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'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21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 47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43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9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захис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безпе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2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32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2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стец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91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3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2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із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6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6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3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итлов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унальн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спод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69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33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4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2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є господарство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7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5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8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видатків міського бюдж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 56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3 990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 76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 66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9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тація вирівнювання районним бюдже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3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8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3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3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25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 96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94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94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енсація за пільговий проїз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2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78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7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7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іаграма №7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видатків загального фонду за січень- березень 2014 року в розрізі напрямків викорис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Object 4"/>
          <p:cNvGraphicFramePr/>
          <p:nvPr/>
        </p:nvGraphicFramePr>
        <p:xfrm>
          <a:off x="228600" y="1143000"/>
          <a:ext cx="850896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85089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аблиця №8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рівняння видатків на заробітну плату та енергоносії по міському бюдже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52280" y="762120"/>
          <a:ext cx="8686800" cy="5921280"/>
        </p:xfrm>
        <a:graphic>
          <a:graphicData uri="http://schemas.openxmlformats.org/drawingml/2006/table">
            <a:tbl>
              <a:tblPr/>
              <a:tblGrid>
                <a:gridCol w="3886200"/>
                <a:gridCol w="1143000"/>
                <a:gridCol w="1067040"/>
                <a:gridCol w="1218960"/>
                <a:gridCol w="1371600"/>
              </a:tblGrid>
              <a:tr h="94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совано за січень-березень 2013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совано за січень-березень 2014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росту факту за січень-березень 2014 року до факту січня-березня 2013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хи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и рос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яг фінансування зарплати та енергоносії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88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00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 88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обітна плата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06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66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60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ві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96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 27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хорона здоров"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95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29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нергоносії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8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33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 48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уги теплопостач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96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2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 93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umeyko_T</cp:lastModifiedBy>
  <dcterms:modified xsi:type="dcterms:W3CDTF">2014-04-04T11:50:23Z</dcterms:modified>
  <cp:revision>8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